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1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dt" idx="1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ftr" idx="1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 type="sldNum" idx="1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BAE80-D9EA-4252-9347-FD73D314E95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63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CB1F2-61B1-4925-BAFC-89D16A61B36A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64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CFA47-1D5C-4654-A357-2B722E6E6423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64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6EE02-7106-4152-96E5-CBF1504CE032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63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55DB6-CDE4-4CAD-AB80-33F5BEAEBC20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811226-FC71-4A19-A76A-7D9F1DCA5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DDFF62-BD1F-48DC-B55C-84A278269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0D96F3-4C2F-4FA2-B032-53830D05B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DCAE14-96CF-4490-8B8F-AAB8FA5B2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E48372-A798-43A5-9C3A-3E211182A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B88C46-353D-4870-B8A3-F289FC0C1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7A073C-0B96-4B98-94C1-77DE1E289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03E76C-2D3F-459F-BD87-4B9F9C877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13B4BF-1042-4034-8BA6-4BCAF8207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ABBC62-82C8-4F0F-BA1D-77AB25729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365C32-872B-496D-92DC-63EE3EE13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98ACFD-8A5D-4E54-BE8A-BB36541D2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AEBB012-97F5-422F-8B0A-EF00C3B02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F83170C-98FC-40C5-BF5A-B3CABB5C7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976987A-EE38-4385-A0F8-A2FBBFB24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4626515-EC2C-4709-961D-F381F6779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87E8A90-3A01-4E90-8EB0-CD4DB167B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7CEFC65-4538-4D48-B460-06C81C798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A3DED34-6CC3-4A96-A4E1-DBD0012CC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EFC3CC9-E987-421C-A661-6180B1DBA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FF36A0E-7C83-49C2-8677-7AC01AD1F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A5D30BA-33B2-42C8-827E-CAE88C9ED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9A8AA96-C82E-472A-ACF6-BC3219A11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6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7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8F9FDAB-E4B4-481D-B63A-EC8726FB4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7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1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2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5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6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7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" name="AutoShape 25"/>
            <p:cNvSpPr/>
            <p:nvPr/>
          </p:nvSpPr>
          <p:spPr>
            <a:xfrm rot="16200000">
              <a:off x="7776000" y="660276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4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03B53-CB11-4D5C-9667-845ED71C832C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Group 11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63" name="Rectangle 12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4" name="Freeform 13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" name="Freeform 14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66" name="Rectangle 15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7" name="Rectangle 16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8" name="Picture 17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8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견고딕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2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73" name="Group 19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74" name="AutoShape 20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5" name="Rectangle 21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6" name="Rectangle 22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77" name="Group 40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78" name="AutoShape 27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9" name="AutoShape 32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0" name="AutoShape 34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" name="Oval 25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2" name="Oval 26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3" name="AutoShape 28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4" name="Oval 30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5" name="AutoShape 31"/>
            <p:cNvSpPr/>
            <p:nvPr/>
          </p:nvSpPr>
          <p:spPr>
            <a:xfrm rot="16200000">
              <a:off x="7776000" y="660096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86" name="Rectangle 37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E75BE-E0DB-4365-B54A-6F429E2701F4}" type="slidenum">
              <a:rPr b="0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7" name="AutoShape 41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25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6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7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28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130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132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33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4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5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36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37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8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9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0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1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2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3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4" name="AutoShape 25"/>
            <p:cNvSpPr/>
            <p:nvPr/>
          </p:nvSpPr>
          <p:spPr>
            <a:xfrm rot="16200000">
              <a:off x="7776000" y="660276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45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E0A39-0E19-40CA-8DF8-8ED3DCA7AC4F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6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147" name="Object 2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48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9" name="Group 3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150" name="Rectangle 4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1" name="Rectangle 5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52" name="Rectangle 6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53" name="Group 7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154" name="AutoShape 8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5" name="Freeform 9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6" name="Freeform 10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7" name="Freeform 11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8" name="Freeform 12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59" name="Group 18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160" name="Picture 19" descr="Untitled-1 copy"/>
            <p:cNvPicPr/>
            <p:nvPr/>
          </p:nvPicPr>
          <p:blipFill>
            <a:blip r:embed="rId6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" name="Picture 20" descr="Untitled-1 copy"/>
            <p:cNvPicPr/>
            <p:nvPr/>
          </p:nvPicPr>
          <p:blipFill>
            <a:blip r:embed="rId7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" name="Picture 21" descr="Untitled-1 copy"/>
            <p:cNvPicPr/>
            <p:nvPr/>
          </p:nvPicPr>
          <p:blipFill>
            <a:blip r:embed="rId8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38BD5-FEBA-42CF-8BF4-7859B4A5C551}" type="slidenum">
              <a: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205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6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7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08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10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212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213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4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5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16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217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8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9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0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1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2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3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4" name="AutoShape 25"/>
            <p:cNvSpPr/>
            <p:nvPr/>
          </p:nvSpPr>
          <p:spPr>
            <a:xfrm rot="16200000">
              <a:off x="7776000" y="660276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25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738D4-A8DA-42F2-9B91-693E2527691A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6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7" name="직사각형 27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dt" idx="6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7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268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69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0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71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2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73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275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276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7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8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79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280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1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2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3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4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5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6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7" name="AutoShape 25"/>
            <p:cNvSpPr/>
            <p:nvPr/>
          </p:nvSpPr>
          <p:spPr>
            <a:xfrm rot="16200000">
              <a:off x="7776000" y="660276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88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77793-4821-486E-A273-35263D58CD35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9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0" name="직사각형 27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91" name="그림 28" descr="title.jpg"/>
          <p:cNvPicPr/>
          <p:nvPr/>
        </p:nvPicPr>
        <p:blipFill>
          <a:blip r:embed="rId4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1" name="Object 15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32" name="Object 1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33" name="Group 16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334" name="Rectangle 17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5" name="Rectangle 18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36" name="Rectangle 19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337" name="Group 20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338" name="AutoShape 21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9" name="Freeform 22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0" name="Freeform 23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1" name="Freeform 24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2" name="Freeform 25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343" name="Group 26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344" name="Picture 27" descr="Untitled-1 copy"/>
            <p:cNvPicPr/>
            <p:nvPr/>
          </p:nvPicPr>
          <p:blipFill>
            <a:blip r:embed="rId4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5" name="Picture 28" descr="Untitled-1 copy"/>
            <p:cNvPicPr/>
            <p:nvPr/>
          </p:nvPicPr>
          <p:blipFill>
            <a:blip r:embed="rId5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6" name="Picture 29" descr="Untitled-1 copy"/>
            <p:cNvPicPr/>
            <p:nvPr/>
          </p:nvPicPr>
          <p:blipFill>
            <a:blip r:embed="rId6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견고딕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 type="dt" idx="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 type="ftr" idx="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 type="sldNum" idx="1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d528d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10E8B-6E3E-4976-9ED0-204EAD8B31B3}" type="slidenum">
              <a:rPr b="0" lang="ko-KR" sz="1400" spc="-1" strike="noStrike">
                <a:solidFill>
                  <a:srgbClr val="1d528d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9.png"/><Relationship Id="rId12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37.xml"/><Relationship Id="rId7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37.xml"/><Relationship Id="rId11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slideLayout" Target="../slideLayouts/slideLayout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3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7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08000" y="504720"/>
            <a:ext cx="90360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ffffff"/>
                </a:solidFill>
                <a:latin typeface="HY강B"/>
                <a:ea typeface="HY강B"/>
              </a:rPr>
              <a:t>제 </a:t>
            </a:r>
            <a:r>
              <a:rPr b="1" lang="en-US" sz="5400" spc="-1" strike="noStrike">
                <a:solidFill>
                  <a:srgbClr val="ffffff"/>
                </a:solidFill>
                <a:latin typeface="HY강B"/>
                <a:ea typeface="HY강B"/>
              </a:rPr>
              <a:t>3 </a:t>
            </a:r>
            <a:r>
              <a:rPr b="1" lang="ko-KR" sz="5400" spc="-1" strike="noStrike">
                <a:solidFill>
                  <a:srgbClr val="ffffff"/>
                </a:solidFill>
                <a:latin typeface="HY강B"/>
                <a:ea typeface="HY강B"/>
              </a:rPr>
              <a:t>부 노인복지정책과 실천</a:t>
            </a:r>
            <a:endParaRPr b="0" lang="en-US" sz="54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396" name="Picture 4" descr="그림1"/>
          <p:cNvPicPr/>
          <p:nvPr/>
        </p:nvPicPr>
        <p:blipFill>
          <a:blip r:embed="rId1"/>
          <a:stretch/>
        </p:blipFill>
        <p:spPr>
          <a:xfrm>
            <a:off x="-42840" y="2189160"/>
            <a:ext cx="9302760" cy="2230560"/>
          </a:xfrm>
          <a:prstGeom prst="rect">
            <a:avLst/>
          </a:prstGeom>
          <a:ln w="0">
            <a:noFill/>
          </a:ln>
        </p:spPr>
      </p:pic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428760" y="2857680"/>
            <a:ext cx="8501040" cy="27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10</a:t>
            </a:r>
            <a:r>
              <a:rPr b="1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인복지와 노인복지정책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HY강B"/>
                <a:ea typeface="HY강B"/>
              </a:rPr>
              <a:t>11</a:t>
            </a:r>
            <a:r>
              <a:rPr b="1" lang="ko-KR" sz="4000" spc="-1" strike="noStrike">
                <a:solidFill>
                  <a:srgbClr val="ffff00"/>
                </a:solidFill>
                <a:latin typeface="HY강B"/>
                <a:ea typeface="HY강B"/>
              </a:rPr>
              <a:t>장 현행 노인복지정책과 서비스</a:t>
            </a:r>
            <a:endParaRPr b="0" lang="en-US" sz="4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12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인복지 프로그램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13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인복지 실천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7" name="그룹 6"/>
          <p:cNvGrpSpPr/>
          <p:nvPr/>
        </p:nvGrpSpPr>
        <p:grpSpPr>
          <a:xfrm>
            <a:off x="285840" y="214200"/>
            <a:ext cx="8831160" cy="6143760"/>
            <a:chOff x="285840" y="214200"/>
            <a:chExt cx="8831160" cy="6143760"/>
          </a:xfrm>
        </p:grpSpPr>
        <p:pic>
          <p:nvPicPr>
            <p:cNvPr id="498" name="Picture 2" descr="C:\DOCUME~1\USER\LOCALS~1\Temp\UNI000005b02efc.gif"/>
            <p:cNvPicPr/>
            <p:nvPr/>
          </p:nvPicPr>
          <p:blipFill>
            <a:blip r:embed="rId1"/>
            <a:stretch/>
          </p:blipFill>
          <p:spPr>
            <a:xfrm>
              <a:off x="6643800" y="5143680"/>
              <a:ext cx="2473200" cy="121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9" name="AutoShape 2"/>
            <p:cNvSpPr/>
            <p:nvPr/>
          </p:nvSpPr>
          <p:spPr>
            <a:xfrm>
              <a:off x="285840" y="642600"/>
              <a:ext cx="8715600" cy="55724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00" name="그룹 10"/>
            <p:cNvGrpSpPr/>
            <p:nvPr/>
          </p:nvGrpSpPr>
          <p:grpSpPr>
            <a:xfrm>
              <a:off x="357120" y="214200"/>
              <a:ext cx="8572680" cy="5876640"/>
              <a:chOff x="357120" y="214200"/>
              <a:chExt cx="8572680" cy="5876640"/>
            </a:xfrm>
          </p:grpSpPr>
          <p:sp>
            <p:nvSpPr>
              <p:cNvPr id="501" name="AutoShape 4"/>
              <p:cNvSpPr/>
              <p:nvPr/>
            </p:nvSpPr>
            <p:spPr>
              <a:xfrm>
                <a:off x="357120" y="214200"/>
                <a:ext cx="5143680" cy="5713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ffffff"/>
                    </a:solidFill>
                    <a:latin typeface="HY강B"/>
                  </a:rPr>
                  <a:t>3) </a:t>
                </a:r>
                <a:r>
                  <a:rPr b="1" lang="ko-KR" sz="2600" spc="-1" strike="noStrike">
                    <a:solidFill>
                      <a:srgbClr val="ffffff"/>
                    </a:solidFill>
                    <a:latin typeface="HY강B"/>
                  </a:rPr>
                  <a:t>고용보장의 문제점과 과제</a:t>
                </a:r>
                <a:endParaRPr b="0" lang="en-US" sz="2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2" name="Text Box 6"/>
              <p:cNvSpPr/>
              <p:nvPr/>
            </p:nvSpPr>
            <p:spPr>
              <a:xfrm>
                <a:off x="428400" y="911160"/>
                <a:ext cx="8501400" cy="517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에 대한 고용차별 심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기업의 구조조정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조기퇴직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퇴직 후 재고용 기회 제한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대안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정년연장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차등정년제도개선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부분정년제 도입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퇴직 후 재고용 제도 강화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  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퇴직자 생활보장 대책 확대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고령자 고용촉진법의 문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고용상 연령차별을 금지함에도 불구하고 노인 근로자 채용 기피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대안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연령별 기준고용률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고령자고용업체 지원 기준 완화 및 지원 수준 상향 조정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고용기회 확대에만 초점을 둔 고용보장제도의 문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동환경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적정 임금보전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산업안전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복지증진 노력 거의 없음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대안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고용기회 확대와 함께 노동환경 개선 및 복지증진 정책 시행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취업지원 기관</a:t>
                </a:r>
                <a:r>
                  <a:rPr b="1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일자리 참여노인에 대한 낮은 지원 수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인취업지원센터 등에 설치비 운영비 지원 낮음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인 일자리 및 사회활동 지원 사업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비정상적 일자리 창출의 문제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대안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취업지원기관 지원 확대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일자리 참여기간과 급여 확대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 고용정보 제한과 직업능력 개발 프로그램 접근도 제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취업정보제한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직업훈련기관 노인 기피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대안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인복지관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주민센터에서 취업정보센터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담당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)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운영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3" name="그룹 11"/>
          <p:cNvGrpSpPr/>
          <p:nvPr/>
        </p:nvGrpSpPr>
        <p:grpSpPr>
          <a:xfrm>
            <a:off x="0" y="0"/>
            <a:ext cx="9358200" cy="6472080"/>
            <a:chOff x="0" y="0"/>
            <a:chExt cx="9358200" cy="6472080"/>
          </a:xfrm>
        </p:grpSpPr>
        <p:sp>
          <p:nvSpPr>
            <p:cNvPr id="504" name="AutoShape 2"/>
            <p:cNvSpPr/>
            <p:nvPr/>
          </p:nvSpPr>
          <p:spPr>
            <a:xfrm>
              <a:off x="285480" y="1142640"/>
              <a:ext cx="8715600" cy="22140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505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85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6" name="Rectangle 2"/>
            <p:cNvSpPr/>
            <p:nvPr/>
          </p:nvSpPr>
          <p:spPr>
            <a:xfrm>
              <a:off x="1571400" y="71280"/>
              <a:ext cx="77868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5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500" spc="-1" strike="noStrike">
                  <a:solidFill>
                    <a:srgbClr val="ffffff"/>
                  </a:solidFill>
                  <a:latin typeface="HY강B"/>
                </a:rPr>
                <a:t>3.</a:t>
              </a:r>
              <a:r>
                <a:rPr b="1" lang="ko-KR" sz="35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500" spc="-1" strike="noStrike">
                  <a:solidFill>
                    <a:srgbClr val="ffffff"/>
                  </a:solidFill>
                  <a:latin typeface="HY강B"/>
                </a:rPr>
                <a:t>주거보장</a:t>
              </a:r>
              <a:endParaRPr b="0" lang="en-US" sz="35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07" name="그룹 10"/>
            <p:cNvGrpSpPr/>
            <p:nvPr/>
          </p:nvGrpSpPr>
          <p:grpSpPr>
            <a:xfrm>
              <a:off x="285480" y="785520"/>
              <a:ext cx="8572680" cy="2557800"/>
              <a:chOff x="285480" y="785520"/>
              <a:chExt cx="8572680" cy="2557800"/>
            </a:xfrm>
          </p:grpSpPr>
          <p:sp>
            <p:nvSpPr>
              <p:cNvPr id="508" name="AutoShape 4"/>
              <p:cNvSpPr/>
              <p:nvPr/>
            </p:nvSpPr>
            <p:spPr>
              <a:xfrm>
                <a:off x="356760" y="785520"/>
                <a:ext cx="3816360" cy="503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</a:rPr>
                  <a:t>1) 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</a:rPr>
                  <a:t>주거보장의 이해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9" name="Text Box 6"/>
              <p:cNvSpPr/>
              <p:nvPr/>
            </p:nvSpPr>
            <p:spPr>
              <a:xfrm>
                <a:off x="285480" y="1336320"/>
                <a:ext cx="8572680" cy="200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주택보장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주택의 건설과 공급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이와 관련된 서비스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주거보장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주택보장을 전제로 정주권 보장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최소 거주면적의 확보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거주기회의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평등 보장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상화의 실현을 목적으로 하는 노인에게 적합한 주거환경 조성 노력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주거보장의 방법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재가목적 주거보장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주택수당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임대료 지원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주택수리 및 개조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비 융자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임대료 및 재산세 변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공영주택입주 우선권 부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+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시설보호목적 주거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보장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복지시설 운영 지원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510" name="AutoShape 2"/>
            <p:cNvSpPr/>
            <p:nvPr/>
          </p:nvSpPr>
          <p:spPr>
            <a:xfrm>
              <a:off x="285480" y="3785040"/>
              <a:ext cx="8715600" cy="26424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11" name="그룹 10"/>
            <p:cNvGrpSpPr/>
            <p:nvPr/>
          </p:nvGrpSpPr>
          <p:grpSpPr>
            <a:xfrm>
              <a:off x="285480" y="3428640"/>
              <a:ext cx="8572680" cy="3043440"/>
              <a:chOff x="285480" y="3428640"/>
              <a:chExt cx="8572680" cy="3043440"/>
            </a:xfrm>
          </p:grpSpPr>
          <p:sp>
            <p:nvSpPr>
              <p:cNvPr id="512" name="AutoShape 4"/>
              <p:cNvSpPr/>
              <p:nvPr/>
            </p:nvSpPr>
            <p:spPr>
              <a:xfrm>
                <a:off x="356760" y="3428640"/>
                <a:ext cx="3816360" cy="503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</a:rPr>
                  <a:t>2) 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</a:rPr>
                  <a:t>현행 주거보장 체계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13" name="Text Box 6"/>
              <p:cNvSpPr/>
              <p:nvPr/>
            </p:nvSpPr>
            <p:spPr>
              <a:xfrm>
                <a:off x="285480" y="3999960"/>
                <a:ext cx="8572680" cy="2472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주택보장에 치중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저소득 무주택 재가노인 주택보장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+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시설보호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주거보장 업무 국토교통부에서 주관하며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복지분야 연구 부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재가노인 주거보장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영구임대아파트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공동생활가정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주거급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주거개선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노인부양 자녀 지원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동거 세대주에 대한 주택자금할증융자제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무주택자녀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직계존속 부양시 주택분양우선권 제도로 노인주거보장정책으로는 한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주택연금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주택담보 노후생활자금 연금형태 지급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11-8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농지연금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소유농지 담보로 정액종신형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기간정액형 등 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5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가지 유형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4" name="그룹 6"/>
          <p:cNvGrpSpPr/>
          <p:nvPr/>
        </p:nvGrpSpPr>
        <p:grpSpPr>
          <a:xfrm>
            <a:off x="285840" y="142920"/>
            <a:ext cx="8715240" cy="6215040"/>
            <a:chOff x="285840" y="142920"/>
            <a:chExt cx="8715240" cy="6215040"/>
          </a:xfrm>
        </p:grpSpPr>
        <p:pic>
          <p:nvPicPr>
            <p:cNvPr id="515" name="Picture 2" descr="C:\DOCUME~1\USER\LOCALS~1\Temp\UNI000005b02efc.gif"/>
            <p:cNvPicPr/>
            <p:nvPr/>
          </p:nvPicPr>
          <p:blipFill>
            <a:blip r:embed="rId1"/>
            <a:stretch/>
          </p:blipFill>
          <p:spPr>
            <a:xfrm>
              <a:off x="6500880" y="4857840"/>
              <a:ext cx="2473200" cy="142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6" name="AutoShape 2"/>
            <p:cNvSpPr/>
            <p:nvPr/>
          </p:nvSpPr>
          <p:spPr>
            <a:xfrm>
              <a:off x="285840" y="571320"/>
              <a:ext cx="8715240" cy="57866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17" name="그룹 10"/>
            <p:cNvGrpSpPr/>
            <p:nvPr/>
          </p:nvGrpSpPr>
          <p:grpSpPr>
            <a:xfrm>
              <a:off x="357120" y="142920"/>
              <a:ext cx="8572680" cy="6049080"/>
              <a:chOff x="357120" y="142920"/>
              <a:chExt cx="8572680" cy="6049080"/>
            </a:xfrm>
          </p:grpSpPr>
          <p:sp>
            <p:nvSpPr>
              <p:cNvPr id="518" name="AutoShape 4"/>
              <p:cNvSpPr/>
              <p:nvPr/>
            </p:nvSpPr>
            <p:spPr>
              <a:xfrm>
                <a:off x="357120" y="142920"/>
                <a:ext cx="5143680" cy="5713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ffffff"/>
                    </a:solidFill>
                    <a:latin typeface="HY강B"/>
                  </a:rPr>
                  <a:t>3) </a:t>
                </a:r>
                <a:r>
                  <a:rPr b="1" lang="ko-KR" sz="2600" spc="-1" strike="noStrike">
                    <a:solidFill>
                      <a:srgbClr val="ffffff"/>
                    </a:solidFill>
                    <a:latin typeface="HY강B"/>
                  </a:rPr>
                  <a:t>주거보장의 문제점과 과제</a:t>
                </a:r>
                <a:endParaRPr b="0" lang="en-US" sz="2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19" name="Text Box 6"/>
              <p:cNvSpPr/>
              <p:nvPr/>
            </p:nvSpPr>
            <p:spPr>
              <a:xfrm>
                <a:off x="428400" y="839520"/>
                <a:ext cx="8501400" cy="5352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주택보장에 치중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무주택 노인과 부양자녀 주택공급에 치중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인 계획주거 인식미흡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대안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고령자 적합주택 개발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/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보급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주택개조비 지원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주거급여 수급자격 완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무주택 노인을 위한 주거지원정책 부재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임대주택공급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집단가정이 전부이며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일반 무주택 노인 임대료 지원 없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대안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일반 무주택 노인 임대료 보조와 할인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재산세 면제 등 지원책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전용주거시설 공급 제한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인장기요양보험제도의 시행으로 중증환자 위주로 시설 입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대안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건강하고 여유 있는 노인을 위한 노인전용 주거시설 확충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지역단위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인전용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공간 설치 운영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복지시설 문제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문제점과 개선방안 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7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장에서 이미 논의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 주거보장 관련 연구 부족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건축학 등 산발적 연구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대안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다분야의 구체적이고 다양한 연구 활성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그룹 12"/>
          <p:cNvGrpSpPr/>
          <p:nvPr/>
        </p:nvGrpSpPr>
        <p:grpSpPr>
          <a:xfrm>
            <a:off x="0" y="0"/>
            <a:ext cx="9358200" cy="6429240"/>
            <a:chOff x="0" y="0"/>
            <a:chExt cx="9358200" cy="6429240"/>
          </a:xfrm>
        </p:grpSpPr>
        <p:sp>
          <p:nvSpPr>
            <p:cNvPr id="521" name="AutoShape 2"/>
            <p:cNvSpPr/>
            <p:nvPr/>
          </p:nvSpPr>
          <p:spPr>
            <a:xfrm>
              <a:off x="428400" y="1143000"/>
              <a:ext cx="8429760" cy="20001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522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3" name="Rectangle 2"/>
            <p:cNvSpPr/>
            <p:nvPr/>
          </p:nvSpPr>
          <p:spPr>
            <a:xfrm>
              <a:off x="1571400" y="142560"/>
              <a:ext cx="77868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400" spc="-1" strike="noStrike">
                  <a:solidFill>
                    <a:srgbClr val="ffffff"/>
                  </a:solidFill>
                  <a:latin typeface="HY강B"/>
                </a:rPr>
                <a:t>4.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  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건강보장</a:t>
              </a:r>
              <a:endParaRPr b="0" lang="en-US" sz="3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24" name="AutoShape 2"/>
            <p:cNvSpPr/>
            <p:nvPr/>
          </p:nvSpPr>
          <p:spPr>
            <a:xfrm>
              <a:off x="428400" y="3959280"/>
              <a:ext cx="8429760" cy="24699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25" name="AutoShape 4"/>
            <p:cNvSpPr/>
            <p:nvPr/>
          </p:nvSpPr>
          <p:spPr>
            <a:xfrm>
              <a:off x="428400" y="785520"/>
              <a:ext cx="3714840" cy="3603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0" lang="en-US" sz="2200" spc="-1" strike="noStrike">
                  <a:solidFill>
                    <a:srgbClr val="ffffff"/>
                  </a:solidFill>
                  <a:latin typeface="HY강B"/>
                </a:rPr>
                <a:t>1) </a:t>
              </a:r>
              <a:r>
                <a:rPr b="0" lang="ko-KR" sz="2200" spc="-1" strike="noStrike">
                  <a:solidFill>
                    <a:srgbClr val="ffffff"/>
                  </a:solidFill>
                  <a:latin typeface="HY강B"/>
                </a:rPr>
                <a:t>건강보장의 이해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26" name="Text Box 6"/>
            <p:cNvSpPr/>
            <p:nvPr/>
          </p:nvSpPr>
          <p:spPr>
            <a:xfrm>
              <a:off x="500040" y="3959280"/>
              <a:ext cx="8501040" cy="243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857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개념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질병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상해 등으로 소요되는 비용이나 수입감사에 대한 보상을 목적으로 하는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보험제도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57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발달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공무원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직장의료보험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77)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지역의료보험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81)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에서 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2000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년 국민건강보험제도로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통합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57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1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주요내용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: </a:t>
              </a: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표 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11-9 </a:t>
              </a: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참조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57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노인건강보험 이용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1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인당 진료비 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381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만 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1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천원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수진율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건당 진료일수와 진료비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내원일수 등의 주요 지표 지속 증가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57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노인의료비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2005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년 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6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조 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556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억원→ 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2017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년 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34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조 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5,643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억원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전체의 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38.0%)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27" name="직사각형 11"/>
            <p:cNvSpPr/>
            <p:nvPr/>
          </p:nvSpPr>
          <p:spPr>
            <a:xfrm>
              <a:off x="428400" y="3643200"/>
              <a:ext cx="621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9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국민건강보험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28" name="Text Box 6"/>
            <p:cNvSpPr/>
            <p:nvPr/>
          </p:nvSpPr>
          <p:spPr>
            <a:xfrm>
              <a:off x="428400" y="1214280"/>
              <a:ext cx="8429760" cy="187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57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의료보장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medical care)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의 용어가 사용되지만 질병치료 등의 소극적 의미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건강보험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처럼 건강보장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health care)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이라는 용어가 타당함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57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개념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질병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부상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망 등의 요인으로 인한 생활불안을 예방하거나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이미 발생한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질병의 치료와 신체 및 정신적 건강생활을 유지할 수  있도록 국가가 개입하여 보장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해주는 제도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57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방법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의료급여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공적 부조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+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건강보험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+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장기요양보험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회보험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29" name="AutoShape 4"/>
            <p:cNvSpPr/>
            <p:nvPr/>
          </p:nvSpPr>
          <p:spPr>
            <a:xfrm>
              <a:off x="428400" y="3214800"/>
              <a:ext cx="3714840" cy="3603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HY강B"/>
                </a:rPr>
                <a:t>2) </a:t>
              </a:r>
              <a:r>
                <a:rPr b="0" lang="ko-KR" sz="2200" spc="-1" strike="noStrike">
                  <a:solidFill>
                    <a:srgbClr val="ffffff"/>
                  </a:solidFill>
                  <a:latin typeface="HY강B"/>
                </a:rPr>
                <a:t>현행 건강보장 체계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0" name="그룹 7"/>
          <p:cNvGrpSpPr/>
          <p:nvPr/>
        </p:nvGrpSpPr>
        <p:grpSpPr>
          <a:xfrm>
            <a:off x="428760" y="58680"/>
            <a:ext cx="8572320" cy="6370560"/>
            <a:chOff x="428760" y="58680"/>
            <a:chExt cx="8572320" cy="6370560"/>
          </a:xfrm>
        </p:grpSpPr>
        <p:sp>
          <p:nvSpPr>
            <p:cNvPr id="531" name="AutoShape 2"/>
            <p:cNvSpPr/>
            <p:nvPr/>
          </p:nvSpPr>
          <p:spPr>
            <a:xfrm>
              <a:off x="428760" y="387000"/>
              <a:ext cx="8429760" cy="13269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32" name="Text Box 6"/>
            <p:cNvSpPr/>
            <p:nvPr/>
          </p:nvSpPr>
          <p:spPr>
            <a:xfrm>
              <a:off x="500040" y="387000"/>
              <a:ext cx="8501040" cy="13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57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개념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저소득 국민에 대해 국가재정으로 의료문제 해결 보장제도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57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발달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의료보호제도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1979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년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에서 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2001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년 의료급여제도로 전환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2007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년 본인부담 도입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57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외래진료 본인부담액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의원 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1,000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원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약국 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500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원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2-3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차병원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1,500-2,500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원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57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2017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년 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67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만여명에 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3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조 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3,354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억원 급여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1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인당 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651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만원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전체 급여의 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44.7%)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33" name="직사각형 3"/>
            <p:cNvSpPr/>
            <p:nvPr/>
          </p:nvSpPr>
          <p:spPr>
            <a:xfrm>
              <a:off x="428760" y="58680"/>
              <a:ext cx="621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9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의료급여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34" name="AutoShape 2"/>
            <p:cNvSpPr/>
            <p:nvPr/>
          </p:nvSpPr>
          <p:spPr>
            <a:xfrm>
              <a:off x="428760" y="2130120"/>
              <a:ext cx="8429760" cy="42991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35" name="Text Box 6"/>
            <p:cNvSpPr/>
            <p:nvPr/>
          </p:nvSpPr>
          <p:spPr>
            <a:xfrm>
              <a:off x="500040" y="2196720"/>
              <a:ext cx="8459640" cy="410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spcBef>
                  <a:spcPts val="201"/>
                </a:spcBef>
                <a:buSzPct val="102837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노인건강진단사업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83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년 첫 시행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.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의료급여수급자 노인 중 희망자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. 1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차진단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12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항목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, 2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차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검사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30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항목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.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생애전환기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16,40,66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세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검진과 연계 시행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spcBef>
                  <a:spcPts val="601"/>
                </a:spcBef>
                <a:buSzPct val="102837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노인실명예방사업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03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년 첫 시행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.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한국실명예방재단 주관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백내장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망막질환 개안수술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기초수급자 등에 한해 본인부담금 전액 지원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spcBef>
                  <a:spcPts val="601"/>
                </a:spcBef>
                <a:buSzPct val="102837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무릎인공관절 수술 지원사업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: 60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세 이상 기초수급자 등에 검사비 등 최대 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120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만원 지원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spcBef>
                  <a:spcPts val="601"/>
                </a:spcBef>
                <a:buSzPct val="102837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치매안심센터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상담 및 등록관리사업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치매조기검진 및 예빵괸리사업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치매환자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쉼터운영사업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치매가족 지원사업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치매인식개선 및 교육홍보사업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치매노인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성년후견사업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치매안심센터 운영실적관리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,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운영모델 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표 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11-10.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조직구성 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그림 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11-2 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참조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spcBef>
                  <a:spcPts val="201"/>
                </a:spcBef>
                <a:buClr>
                  <a:srgbClr val="181373"/>
                </a:buClr>
                <a:buFont typeface="HY강M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치매검진사업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선별검사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1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단계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＋진단검사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2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단계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＋감별검사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3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단계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비용지원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spcBef>
                  <a:spcPts val="601"/>
                </a:spcBef>
                <a:buClr>
                  <a:srgbClr val="af334e"/>
                </a:buClr>
                <a:buFont typeface="HY강M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치매치료관리비 지원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저소득 치매노인 약제 및 진료비 연 </a:t>
              </a: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36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만원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spcBef>
                  <a:spcPts val="601"/>
                </a:spcBef>
                <a:buClr>
                  <a:srgbClr val="af334e"/>
                </a:buClr>
                <a:buFont typeface="HY강M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실종노인 발생예방 및 찾기사업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배회가능 노인 인식표 배부사업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spcBef>
                  <a:spcPts val="601"/>
                </a:spcBef>
                <a:buClr>
                  <a:srgbClr val="af334e"/>
                </a:buClr>
                <a:buFont typeface="HY강M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공립치매요양병원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의료법 제 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3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조 의거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98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년 첫 시행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.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장비비 지원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spcBef>
                  <a:spcPts val="601"/>
                </a:spcBef>
                <a:buClr>
                  <a:srgbClr val="af334e"/>
                </a:buClr>
                <a:buFont typeface="HY강M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경로식당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99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년 첫 시행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. 60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세 이상 결식노인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spcBef>
                  <a:spcPts val="601"/>
                </a:spcBef>
                <a:buClr>
                  <a:srgbClr val="181373"/>
                </a:buClr>
                <a:buFont typeface="HY강M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결식노인 무료급식사업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(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식사배달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): 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2000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년 첫 지원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. 65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세 이상 저소득노인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1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일 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2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만명 이용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spcBef>
                  <a:spcPts val="601"/>
                </a:spcBef>
                <a:buSzPct val="102837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노인복지관 등의 영양개선 및 운동관리프로그램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건보공단의 경로당 등의 노인운동지도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36" name="직사각형 6"/>
            <p:cNvSpPr/>
            <p:nvPr/>
          </p:nvSpPr>
          <p:spPr>
            <a:xfrm>
              <a:off x="428760" y="1785600"/>
              <a:ext cx="621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92"/>
                <a:buBlip>
                  <a:blip r:embed="rId1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노인건강지원사업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7" name="그룹 8"/>
          <p:cNvGrpSpPr/>
          <p:nvPr/>
        </p:nvGrpSpPr>
        <p:grpSpPr>
          <a:xfrm>
            <a:off x="428760" y="500040"/>
            <a:ext cx="8572320" cy="5429160"/>
            <a:chOff x="428760" y="500040"/>
            <a:chExt cx="8572320" cy="5429160"/>
          </a:xfrm>
        </p:grpSpPr>
        <p:grpSp>
          <p:nvGrpSpPr>
            <p:cNvPr id="538" name="그룹 6"/>
            <p:cNvGrpSpPr/>
            <p:nvPr/>
          </p:nvGrpSpPr>
          <p:grpSpPr>
            <a:xfrm>
              <a:off x="428760" y="500040"/>
              <a:ext cx="8572320" cy="1214280"/>
              <a:chOff x="428760" y="500040"/>
              <a:chExt cx="8572320" cy="1214280"/>
            </a:xfrm>
          </p:grpSpPr>
          <p:sp>
            <p:nvSpPr>
              <p:cNvPr id="539" name="AutoShape 2"/>
              <p:cNvSpPr/>
              <p:nvPr/>
            </p:nvSpPr>
            <p:spPr>
              <a:xfrm>
                <a:off x="428760" y="887400"/>
                <a:ext cx="8429760" cy="8269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40" name="Text Box 6"/>
              <p:cNvSpPr/>
              <p:nvPr/>
            </p:nvSpPr>
            <p:spPr>
              <a:xfrm>
                <a:off x="500040" y="898560"/>
                <a:ext cx="8501040" cy="68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정책방향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매장 억제 및 화장 등의 장려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국민인식개선 통한 장사문화개선 등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현황과 문제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화장률 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83%,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화장시설 부족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장사서비스 불친절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장사시설 설치 반대등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41" name="직사각형 3"/>
              <p:cNvSpPr/>
              <p:nvPr/>
            </p:nvSpPr>
            <p:spPr>
              <a:xfrm>
                <a:off x="428760" y="500040"/>
                <a:ext cx="621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장사서비스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542" name="AutoShape 2"/>
            <p:cNvSpPr/>
            <p:nvPr/>
          </p:nvSpPr>
          <p:spPr>
            <a:xfrm>
              <a:off x="428760" y="2714400"/>
              <a:ext cx="8429760" cy="32148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2000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년부터 정책과제로 검토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3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년간의 시범사업 실시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장기요양보험법의 제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2007. 4.)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을 통해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2008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년 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7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월부터 시행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국민연금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건강보험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산재보험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고용보험에 이은 다섯번째 사회보험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개념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성 질환 등으로 일상생활을 혼자서 수행하기 어려운 노인에게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가정이나 시설에서 요양서비스를 제공하여 노후의 건강증진 및 생활안정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도모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부양가족의 부양부담 경감을 도모하는 사회보험제도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특성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질병의 치료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cure)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보다는 중증환자의 요양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care)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에 중점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.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질병 시에는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건강보험의 적용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43" name="AutoShape 4"/>
            <p:cNvSpPr/>
            <p:nvPr/>
          </p:nvSpPr>
          <p:spPr>
            <a:xfrm>
              <a:off x="428760" y="2071440"/>
              <a:ext cx="3714480" cy="5713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HY강B"/>
                </a:rPr>
                <a:t>3) </a:t>
              </a:r>
              <a:r>
                <a:rPr b="0" lang="ko-KR" sz="2200" spc="-1" strike="noStrike">
                  <a:solidFill>
                    <a:srgbClr val="ffffff"/>
                  </a:solidFill>
                  <a:latin typeface="HY강B"/>
                </a:rPr>
                <a:t>노인장기요양보험제도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4" name="그룹 7"/>
          <p:cNvGrpSpPr/>
          <p:nvPr/>
        </p:nvGrpSpPr>
        <p:grpSpPr>
          <a:xfrm>
            <a:off x="214200" y="214200"/>
            <a:ext cx="8858520" cy="6015240"/>
            <a:chOff x="214200" y="214200"/>
            <a:chExt cx="8858520" cy="6015240"/>
          </a:xfrm>
        </p:grpSpPr>
        <p:sp>
          <p:nvSpPr>
            <p:cNvPr id="545" name="AutoShape 2"/>
            <p:cNvSpPr/>
            <p:nvPr/>
          </p:nvSpPr>
          <p:spPr>
            <a:xfrm>
              <a:off x="214200" y="3000240"/>
              <a:ext cx="8787240" cy="32148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46" name="AutoShape 2"/>
            <p:cNvSpPr/>
            <p:nvPr/>
          </p:nvSpPr>
          <p:spPr>
            <a:xfrm>
              <a:off x="214200" y="642600"/>
              <a:ext cx="8787240" cy="17143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47" name="Text Box 6"/>
            <p:cNvSpPr/>
            <p:nvPr/>
          </p:nvSpPr>
          <p:spPr>
            <a:xfrm>
              <a:off x="285480" y="649440"/>
              <a:ext cx="8787240" cy="177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buSzPct val="10279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적용대상</a:t>
              </a: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: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전국민</a:t>
              </a: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(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노인장기요양보험 가입자</a:t>
              </a: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+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의료급여 수급자</a:t>
              </a: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)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79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급여대상</a:t>
              </a: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: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장기요양등급 </a:t>
              </a: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1-5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등급</a:t>
              </a: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인지지원등급을 받은 </a:t>
              </a: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65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세 이상 노인과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  </a:t>
              </a: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64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세 이하</a:t>
              </a: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노인성 질환자</a:t>
              </a: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(</a:t>
              </a:r>
              <a:r>
                <a:rPr b="0" lang="en-US" sz="20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표 </a:t>
              </a:r>
              <a:r>
                <a:rPr b="0" lang="en-US" sz="20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11-11 </a:t>
              </a:r>
              <a:r>
                <a:rPr b="0" lang="ko-KR" sz="20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참조</a:t>
              </a:r>
              <a:r>
                <a:rPr b="0" lang="en-US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), 2019</a:t>
              </a: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년 </a:t>
              </a:r>
              <a:r>
                <a:rPr b="0" lang="en-US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3</a:t>
              </a: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월 현재 </a:t>
              </a:r>
              <a:r>
                <a:rPr b="0" lang="en-US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65+</a:t>
              </a: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인구의 </a:t>
              </a:r>
              <a:r>
                <a:rPr b="0" lang="en-US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9%</a:t>
              </a: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가</a:t>
              </a:r>
              <a:r>
                <a:rPr b="0" lang="en-US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  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장기요양 등급 인정자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48" name="직사각형 3"/>
            <p:cNvSpPr/>
            <p:nvPr/>
          </p:nvSpPr>
          <p:spPr>
            <a:xfrm>
              <a:off x="285480" y="214200"/>
              <a:ext cx="621540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884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400" spc="-1" strike="noStrike">
                  <a:solidFill>
                    <a:srgbClr val="c00000"/>
                  </a:solidFill>
                  <a:latin typeface="Arial"/>
                </a:rPr>
                <a:t>대상</a:t>
              </a:r>
              <a:r>
                <a:rPr b="0" lang="en-US" sz="2400" spc="-1" strike="noStrike">
                  <a:solidFill>
                    <a:srgbClr val="c0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49" name="직사각형 4"/>
            <p:cNvSpPr/>
            <p:nvPr/>
          </p:nvSpPr>
          <p:spPr>
            <a:xfrm>
              <a:off x="285480" y="2574720"/>
              <a:ext cx="621540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884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400" spc="-1" strike="noStrike">
                  <a:solidFill>
                    <a:srgbClr val="c00000"/>
                  </a:solidFill>
                  <a:latin typeface="Arial"/>
                </a:rPr>
                <a:t>인정 및 이용절차</a:t>
              </a:r>
              <a:r>
                <a:rPr b="0" lang="en-US" sz="2400" spc="-1" strike="noStrike">
                  <a:solidFill>
                    <a:srgbClr val="c0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0" name="Text Box 6"/>
            <p:cNvSpPr/>
            <p:nvPr/>
          </p:nvSpPr>
          <p:spPr>
            <a:xfrm>
              <a:off x="285480" y="3087360"/>
              <a:ext cx="8787240" cy="31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buSzPct val="10279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장기요양인정 신청</a:t>
              </a:r>
              <a:r>
                <a:rPr b="0" lang="en-US" sz="20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: </a:t>
              </a:r>
              <a:r>
                <a:rPr b="0" lang="ko-KR" sz="20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국민건강보험 지사</a:t>
              </a:r>
              <a:r>
                <a:rPr b="0" lang="en-US" sz="20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20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장기요양인정신청서</a:t>
              </a:r>
              <a:r>
                <a:rPr b="0" lang="en-US" sz="20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의사소견서</a:t>
              </a:r>
              <a:r>
                <a:rPr b="0" lang="en-US" sz="20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79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장기요양 인정 조사항목</a:t>
              </a: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: </a:t>
              </a:r>
              <a:r>
                <a:rPr b="0" lang="ko-KR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표 </a:t>
              </a:r>
              <a:r>
                <a:rPr b="0" lang="en-US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11-12 </a:t>
              </a:r>
              <a:r>
                <a:rPr b="0" lang="ko-KR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참조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79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장기요양 인정 판정절차와 등급</a:t>
              </a: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: 1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차 방문조사결과 입력하여 장기요양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인정점수 산출 </a:t>
              </a:r>
              <a:r>
                <a:rPr b="0" lang="en-US" sz="2000" spc="-1" strike="noStrike">
                  <a:solidFill>
                    <a:srgbClr val="163e6a"/>
                  </a:solidFill>
                  <a:latin typeface="Wingdings"/>
                  <a:ea typeface="Wingdings"/>
                </a:rPr>
                <a:t></a:t>
              </a: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</a:t>
              </a: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2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차 장기요양등급판정위원회에서 심사</a:t>
              </a:r>
              <a:r>
                <a:rPr b="0" lang="en-US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(</a:t>
              </a:r>
              <a:r>
                <a:rPr b="0" lang="ko-KR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표 </a:t>
              </a:r>
              <a:r>
                <a:rPr b="0" lang="en-US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11-13 </a:t>
              </a:r>
              <a:r>
                <a:rPr b="0" lang="ko-KR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참조</a:t>
              </a:r>
              <a:r>
                <a:rPr b="0" lang="en-US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)</a:t>
              </a:r>
              <a:r>
                <a:rPr b="0" lang="ko-KR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79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 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등급판정 수 </a:t>
              </a: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30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일 이내 장기요양인정서와 표준장기요양이용계획서를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  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통지하고</a:t>
              </a: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, 1-5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등급 또는 인지지원등급은 재가</a:t>
              </a: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/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시설서비스 신청</a:t>
              </a: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계약 이용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792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 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장기요양보험 이용절차 및 관리운영체계</a:t>
              </a: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: </a:t>
              </a:r>
              <a:r>
                <a:rPr b="0" lang="ko-KR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그림 </a:t>
              </a:r>
              <a:r>
                <a:rPr b="0" lang="en-US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11-3 </a:t>
              </a:r>
              <a:r>
                <a:rPr b="0" lang="ko-KR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참조</a:t>
              </a:r>
              <a:r>
                <a:rPr b="0" lang="en-US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1" name="그룹 5"/>
          <p:cNvGrpSpPr/>
          <p:nvPr/>
        </p:nvGrpSpPr>
        <p:grpSpPr>
          <a:xfrm>
            <a:off x="214200" y="360360"/>
            <a:ext cx="8786880" cy="5854680"/>
            <a:chOff x="214200" y="360360"/>
            <a:chExt cx="8786880" cy="5854680"/>
          </a:xfrm>
        </p:grpSpPr>
        <p:sp>
          <p:nvSpPr>
            <p:cNvPr id="552" name="AutoShape 2"/>
            <p:cNvSpPr/>
            <p:nvPr/>
          </p:nvSpPr>
          <p:spPr>
            <a:xfrm>
              <a:off x="214200" y="785520"/>
              <a:ext cx="8786880" cy="54295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3" name="Text Box 6"/>
            <p:cNvSpPr/>
            <p:nvPr/>
          </p:nvSpPr>
          <p:spPr>
            <a:xfrm>
              <a:off x="285480" y="928440"/>
              <a:ext cx="8572680" cy="48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buSzPct val="10279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재정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: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장기요양보험료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+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국가부담금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보험료 예상수입액의 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20%)+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수급권자의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   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본인부담금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보험료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장기요양위원회에서 결정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(2012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년 건강보험료액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×6.55%), 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건강보험료와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통합 납부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본인부담금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재가급여는 비용의 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15%, 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시설급여는 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20%. 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단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기초수급권자는 면제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의료급여 수급자와 건보료 순위따라 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40-60% 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감면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. 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비급여 항목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식사재료비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,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이미용비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상급침실 이용비 등은 전액 본인 부담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급여액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: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시설급여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등급과 시설종류에 따라 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1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일 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51,820-69,150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원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제 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7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장 참조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),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특별현금급여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가족요양비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월 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15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만원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), 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방문요양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시간에 따라 회당 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14,120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원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-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  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53,940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원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), 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주야간보호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등급과 시간에따라 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1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일 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29,160-56,890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원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), 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단기보호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월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  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9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일 이내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등급에 따라 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1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일 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45,140-55,710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원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), 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방문목욕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차량이용 회당 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72,540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원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미이용시 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40,840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원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), 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방문간호서비스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시간에 따라 회당 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35,230-53,170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원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) 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복지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용구 급여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연간 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160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만원 이내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)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163e6a"/>
                </a:buClr>
                <a:buFont typeface="HY강M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재가급여 월한도액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: 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1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등급 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1,456,400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원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, 3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등급 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1,240,700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원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, 5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등급 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980,800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원이내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4" name="직사각형 4"/>
            <p:cNvSpPr/>
            <p:nvPr/>
          </p:nvSpPr>
          <p:spPr>
            <a:xfrm>
              <a:off x="285480" y="360360"/>
              <a:ext cx="621504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884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400" spc="-1" strike="noStrike">
                  <a:solidFill>
                    <a:srgbClr val="c00000"/>
                  </a:solidFill>
                  <a:latin typeface="Arial"/>
                </a:rPr>
                <a:t>재정 및 급여</a:t>
              </a:r>
              <a:r>
                <a:rPr b="0" lang="en-US" sz="2400" spc="-1" strike="noStrike">
                  <a:solidFill>
                    <a:srgbClr val="c0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5" name="그룹 4"/>
          <p:cNvGrpSpPr/>
          <p:nvPr/>
        </p:nvGrpSpPr>
        <p:grpSpPr>
          <a:xfrm>
            <a:off x="142920" y="357120"/>
            <a:ext cx="8786880" cy="5786640"/>
            <a:chOff x="142920" y="357120"/>
            <a:chExt cx="8786880" cy="5786640"/>
          </a:xfrm>
        </p:grpSpPr>
        <p:sp>
          <p:nvSpPr>
            <p:cNvPr id="556" name="AutoShape 2"/>
            <p:cNvSpPr/>
            <p:nvPr/>
          </p:nvSpPr>
          <p:spPr>
            <a:xfrm>
              <a:off x="142920" y="785520"/>
              <a:ext cx="8786880" cy="53582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7" name="Text Box 6"/>
            <p:cNvSpPr/>
            <p:nvPr/>
          </p:nvSpPr>
          <p:spPr>
            <a:xfrm>
              <a:off x="285480" y="1152360"/>
              <a:ext cx="8572680" cy="466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buSzPct val="10279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중앙 및 지방정부</a:t>
              </a: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건강보험공단</a:t>
              </a: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장기요양기관의 역할</a:t>
              </a: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: </a:t>
              </a:r>
              <a:r>
                <a:rPr b="0" lang="ko-KR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그림 </a:t>
              </a:r>
              <a:r>
                <a:rPr b="0" lang="en-US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11-3 </a:t>
              </a:r>
              <a:r>
                <a:rPr b="0" lang="ko-KR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참조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SzPct val="10279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기존 노인복지법에 의해 설립된 재가 및 의료복지시설은 시군구의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  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지정 받아야 하며</a:t>
              </a: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노인장기요양보험법에 의거 설치된 기관은 별도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  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지정절차가 필요 없으며</a:t>
              </a: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장기요양기관 지정을 받지 않으면</a:t>
              </a: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장기요양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  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급여 청구 못함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SzPct val="102837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SzPct val="10279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장기요양기관의 폐업 또는 휴업</a:t>
              </a: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: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예정일 </a:t>
              </a: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30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일 전까지 건강보험공단에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  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신고서 제출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SzPct val="102837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SzPct val="10279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장기요양기관 지정 기준 부적합</a:t>
              </a: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노인 학대 등을 이유로 시군구청장은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  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경고</a:t>
              </a: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영업정지</a:t>
              </a: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폐쇄명령</a:t>
              </a: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지정취소 등의 조치 취함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SzPct val="102837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SzPct val="10279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장기요양요원은 요양보호사</a:t>
              </a: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간호사</a:t>
              </a: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간호조무사 및 치과위생사 등의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  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자격을 갖추어야 하며</a:t>
              </a: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요양보호사 교육과정은 </a:t>
              </a:r>
              <a:r>
                <a:rPr b="0" lang="ko-KR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제 </a:t>
              </a:r>
              <a:r>
                <a:rPr b="0" lang="en-US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7</a:t>
              </a:r>
              <a:r>
                <a:rPr b="0" lang="ko-KR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장 </a:t>
              </a:r>
              <a:r>
                <a:rPr b="0" lang="en-US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4</a:t>
              </a:r>
              <a:r>
                <a:rPr b="0" lang="ko-KR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절</a:t>
              </a:r>
              <a:r>
                <a:rPr b="0" lang="en-US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참조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c00000"/>
                </a:buClr>
                <a:buFont typeface="HY강M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8" name="직사각형 6"/>
            <p:cNvSpPr/>
            <p:nvPr/>
          </p:nvSpPr>
          <p:spPr>
            <a:xfrm>
              <a:off x="285480" y="357120"/>
              <a:ext cx="6215040" cy="43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851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5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500" spc="-1" strike="noStrike">
                  <a:solidFill>
                    <a:srgbClr val="c00000"/>
                  </a:solidFill>
                  <a:latin typeface="Arial"/>
                </a:rPr>
                <a:t>관리운영체계</a:t>
              </a:r>
              <a:r>
                <a:rPr b="0" lang="en-US" sz="2500" spc="-1" strike="noStrike">
                  <a:solidFill>
                    <a:srgbClr val="c00000"/>
                  </a:solidFill>
                  <a:latin typeface="Arial"/>
                </a:rPr>
                <a:t> 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9" name="그룹 6"/>
          <p:cNvGrpSpPr/>
          <p:nvPr/>
        </p:nvGrpSpPr>
        <p:grpSpPr>
          <a:xfrm>
            <a:off x="285840" y="71280"/>
            <a:ext cx="8858160" cy="6357960"/>
            <a:chOff x="285840" y="71280"/>
            <a:chExt cx="8858160" cy="6357960"/>
          </a:xfrm>
        </p:grpSpPr>
        <p:sp>
          <p:nvSpPr>
            <p:cNvPr id="560" name="AutoShape 2"/>
            <p:cNvSpPr/>
            <p:nvPr/>
          </p:nvSpPr>
          <p:spPr>
            <a:xfrm>
              <a:off x="285840" y="499680"/>
              <a:ext cx="8715600" cy="59295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61" name="AutoShape 4"/>
            <p:cNvSpPr/>
            <p:nvPr/>
          </p:nvSpPr>
          <p:spPr>
            <a:xfrm>
              <a:off x="357120" y="71280"/>
              <a:ext cx="540072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ffffff"/>
                  </a:solidFill>
                  <a:latin typeface="HY강B"/>
                </a:rPr>
                <a:t>4) </a:t>
              </a:r>
              <a:r>
                <a:rPr b="1" lang="ko-KR" sz="2500" spc="-1" strike="noStrike">
                  <a:solidFill>
                    <a:srgbClr val="ffffff"/>
                  </a:solidFill>
                  <a:latin typeface="HY강B"/>
                </a:rPr>
                <a:t>건강보장의 문제점과 과제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62" name="Text Box 6"/>
            <p:cNvSpPr/>
            <p:nvPr/>
          </p:nvSpPr>
          <p:spPr>
            <a:xfrm>
              <a:off x="428400" y="714240"/>
              <a:ext cx="8715600" cy="562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1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인의료비 증가로 인한 국가재정 위기 가능성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인의료이용 증가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보험수가 인상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병원비용 증가 등으로 인한 노인의료비 급격한 증가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대안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성인 건강증진 및 예방사업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인본인부담금 할인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사회적 입원 억제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건강보험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수가개선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의료시설과 서비스에 대한 감독 강화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00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1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건강보호시설 접근성의 차별문제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보건의료기관 도시집중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대안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농촌 순회 진료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보건소 기능강화 등 공공보건체계 강화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인복지시설 및 재가노인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복지기관 확대 설치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00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1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인건강지원사업의 실효성 문제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건강진단 저소득 노인에 국한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치매상담센터 운영비 지원부족 등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대안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건강진단 수준 향상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전문인력 확보와 운영비 지원 확대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1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치매</a:t>
              </a:r>
              <a:r>
                <a:rPr b="1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1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중증질환 노인가족에 대한 지원 부족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인 환자의 치료와 보호에 치중된 건강보장 체계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대안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가족 건강지원서비스 강화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중증환자 가족 부양수당 지급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00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1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인장기요양보험제도의 문제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시설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사례관리 체계 미구축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단기교육 인력활용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등급판정의 공정성 문제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장기요양요원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의 노동조건 악화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일부 기관의 부당청구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인돌봄서비스와 주거복지시설 연계 미흡 등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대안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시행 초기 제도상의 문제점 지속 보완 필요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Picture 53" descr="그림1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287280"/>
          </a:xfrm>
          <a:prstGeom prst="rect">
            <a:avLst/>
          </a:prstGeom>
          <a:ln w="0">
            <a:noFill/>
          </a:ln>
        </p:spPr>
      </p:pic>
      <p:sp>
        <p:nvSpPr>
          <p:cNvPr id="399" name="Rectangle 42"/>
          <p:cNvSpPr/>
          <p:nvPr/>
        </p:nvSpPr>
        <p:spPr>
          <a:xfrm>
            <a:off x="6037200" y="6259680"/>
            <a:ext cx="165744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400" name="Group 6"/>
          <p:cNvGrpSpPr/>
          <p:nvPr/>
        </p:nvGrpSpPr>
        <p:grpSpPr>
          <a:xfrm>
            <a:off x="-2411280" y="1978200"/>
            <a:ext cx="4032000" cy="3776400"/>
            <a:chOff x="-2411280" y="1978200"/>
            <a:chExt cx="4032000" cy="3776400"/>
          </a:xfrm>
        </p:grpSpPr>
        <p:sp>
          <p:nvSpPr>
            <p:cNvPr id="401" name="AutoShape 7"/>
            <p:cNvSpPr/>
            <p:nvPr/>
          </p:nvSpPr>
          <p:spPr>
            <a:xfrm rot="5400000">
              <a:off x="-2283480" y="1850040"/>
              <a:ext cx="3776400" cy="4032000"/>
            </a:xfrm>
            <a:custGeom>
              <a:avLst/>
              <a:gdLst>
                <a:gd name="textAreaLeft" fmla="*/ 69840 w 3776400"/>
                <a:gd name="textAreaRight" fmla="*/ 3706560 w 3776400"/>
                <a:gd name="textAreaTop" fmla="*/ 0 h 4032000"/>
                <a:gd name="textAreaBottom" fmla="*/ 2544840 h 40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23" y="10641"/>
                  </a:moveTo>
                  <a:cubicBezTo>
                    <a:pt x="410" y="4916"/>
                    <a:pt x="5075" y="321"/>
                    <a:pt x="10800" y="322"/>
                  </a:cubicBezTo>
                  <a:cubicBezTo>
                    <a:pt x="16524" y="322"/>
                    <a:pt x="21189" y="4916"/>
                    <a:pt x="21276" y="10641"/>
                  </a:cubicBezTo>
                  <a:lnTo>
                    <a:pt x="21598" y="10636"/>
                  </a:lnTo>
                  <a:cubicBezTo>
                    <a:pt x="21509" y="4736"/>
                    <a:pt x="16700" y="-1"/>
                    <a:pt x="10799" y="0"/>
                  </a:cubicBezTo>
                  <a:cubicBezTo>
                    <a:pt x="4899" y="0"/>
                    <a:pt x="90" y="4736"/>
                    <a:pt x="1" y="10636"/>
                  </a:cubicBezTo>
                  <a:lnTo>
                    <a:pt x="323" y="1064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8">
                    <a:alpha val="84313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02" name="AutoShape 8"/>
            <p:cNvSpPr/>
            <p:nvPr/>
          </p:nvSpPr>
          <p:spPr>
            <a:xfrm rot="5400000">
              <a:off x="-1182240" y="3020760"/>
              <a:ext cx="2453040" cy="1717560"/>
            </a:xfrm>
            <a:custGeom>
              <a:avLst/>
              <a:gdLst>
                <a:gd name="textAreaLeft" fmla="*/ 0 w 2453040"/>
                <a:gd name="textAreaRight" fmla="*/ 2453400 w 2453040"/>
                <a:gd name="textAreaTop" fmla="*/ 0 h 1717560"/>
                <a:gd name="textAreaBottom" fmla="*/ 622080 h 171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56" y="10807"/>
                  </a:moveTo>
                  <a:cubicBezTo>
                    <a:pt x="10056" y="10805"/>
                    <a:pt x="10056" y="10802"/>
                    <a:pt x="10056" y="10800"/>
                  </a:cubicBezTo>
                  <a:cubicBezTo>
                    <a:pt x="10056" y="10389"/>
                    <a:pt x="10389" y="10056"/>
                    <a:pt x="10800" y="10056"/>
                  </a:cubicBezTo>
                  <a:cubicBezTo>
                    <a:pt x="11210" y="10056"/>
                    <a:pt x="11544" y="10389"/>
                    <a:pt x="11544" y="10800"/>
                  </a:cubicBezTo>
                  <a:cubicBezTo>
                    <a:pt x="11544" y="10802"/>
                    <a:pt x="11543" y="10805"/>
                    <a:pt x="11543" y="10807"/>
                  </a:cubicBezTo>
                  <a:lnTo>
                    <a:pt x="21599" y="10916"/>
                  </a:lnTo>
                  <a:cubicBezTo>
                    <a:pt x="21599" y="10877"/>
                    <a:pt x="21600" y="10838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-1" y="10838"/>
                    <a:pt x="0" y="10877"/>
                    <a:pt x="0" y="10916"/>
                  </a:cubicBezTo>
                  <a:lnTo>
                    <a:pt x="10056" y="10807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8">
                    <a:alpha val="76078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03" name="Line 9"/>
          <p:cNvSpPr/>
          <p:nvPr/>
        </p:nvSpPr>
        <p:spPr>
          <a:xfrm flipV="1">
            <a:off x="0" y="2928600"/>
            <a:ext cx="1000080" cy="107172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4" name="Line 12"/>
          <p:cNvSpPr/>
          <p:nvPr/>
        </p:nvSpPr>
        <p:spPr>
          <a:xfrm flipV="1">
            <a:off x="0" y="3975120"/>
            <a:ext cx="1357200" cy="4608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5" name="Line 13"/>
          <p:cNvSpPr/>
          <p:nvPr/>
        </p:nvSpPr>
        <p:spPr>
          <a:xfrm>
            <a:off x="0" y="4000680"/>
            <a:ext cx="857160" cy="193500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6" name="Line 64"/>
          <p:cNvSpPr/>
          <p:nvPr/>
        </p:nvSpPr>
        <p:spPr>
          <a:xfrm>
            <a:off x="0" y="3994200"/>
            <a:ext cx="857160" cy="93492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7" name="Line 9"/>
          <p:cNvSpPr/>
          <p:nvPr/>
        </p:nvSpPr>
        <p:spPr>
          <a:xfrm flipV="1">
            <a:off x="0" y="2214720"/>
            <a:ext cx="928800" cy="163656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408" name="Group 44"/>
          <p:cNvGrpSpPr/>
          <p:nvPr/>
        </p:nvGrpSpPr>
        <p:grpSpPr>
          <a:xfrm>
            <a:off x="642960" y="1824120"/>
            <a:ext cx="8199360" cy="4458600"/>
            <a:chOff x="642960" y="1824120"/>
            <a:chExt cx="8199360" cy="4458600"/>
          </a:xfrm>
        </p:grpSpPr>
        <p:sp>
          <p:nvSpPr>
            <p:cNvPr id="409" name="AutoShape 4"/>
            <p:cNvSpPr/>
            <p:nvPr/>
          </p:nvSpPr>
          <p:spPr>
            <a:xfrm>
              <a:off x="1622520" y="1824120"/>
              <a:ext cx="7199280" cy="67032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770000"/>
                </a:gs>
                <a:gs pos="100000">
                  <a:srgbClr val="ce0000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소득보장제도의 개념</a:t>
              </a: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현황</a:t>
              </a: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문제점과 과제 이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10" name="Group 14"/>
            <p:cNvGrpSpPr/>
            <p:nvPr/>
          </p:nvGrpSpPr>
          <p:grpSpPr>
            <a:xfrm>
              <a:off x="642960" y="1840320"/>
              <a:ext cx="856800" cy="714600"/>
              <a:chOff x="642960" y="1840320"/>
              <a:chExt cx="856800" cy="714600"/>
            </a:xfrm>
          </p:grpSpPr>
          <p:sp>
            <p:nvSpPr>
              <p:cNvPr id="411" name="Oval 15"/>
              <p:cNvSpPr/>
              <p:nvPr/>
            </p:nvSpPr>
            <p:spPr>
              <a:xfrm>
                <a:off x="664200" y="184032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12" name="Oval 16"/>
              <p:cNvSpPr/>
              <p:nvPr/>
            </p:nvSpPr>
            <p:spPr>
              <a:xfrm>
                <a:off x="664200" y="1842480"/>
                <a:ext cx="777600" cy="71244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413" name="Picture 17" descr="알"/>
              <p:cNvPicPr/>
              <p:nvPr/>
            </p:nvPicPr>
            <p:blipFill>
              <a:blip r:embed="rId2"/>
              <a:stretch/>
            </p:blipFill>
            <p:spPr>
              <a:xfrm>
                <a:off x="713160" y="184680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4" name="Text Box 18"/>
              <p:cNvSpPr/>
              <p:nvPr/>
            </p:nvSpPr>
            <p:spPr>
              <a:xfrm>
                <a:off x="642960" y="184860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Ⅰ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15" name="Group 14"/>
            <p:cNvGrpSpPr/>
            <p:nvPr/>
          </p:nvGrpSpPr>
          <p:grpSpPr>
            <a:xfrm>
              <a:off x="642960" y="2777040"/>
              <a:ext cx="856800" cy="714600"/>
              <a:chOff x="642960" y="2777040"/>
              <a:chExt cx="856800" cy="714600"/>
            </a:xfrm>
          </p:grpSpPr>
          <p:sp>
            <p:nvSpPr>
              <p:cNvPr id="416" name="Oval 15"/>
              <p:cNvSpPr/>
              <p:nvPr/>
            </p:nvSpPr>
            <p:spPr>
              <a:xfrm>
                <a:off x="664200" y="277704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17" name="Oval 16"/>
              <p:cNvSpPr/>
              <p:nvPr/>
            </p:nvSpPr>
            <p:spPr>
              <a:xfrm>
                <a:off x="664200" y="2779200"/>
                <a:ext cx="777600" cy="71244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418" name="Picture 17" descr="알"/>
              <p:cNvPicPr/>
              <p:nvPr/>
            </p:nvPicPr>
            <p:blipFill>
              <a:blip r:embed="rId3"/>
              <a:stretch/>
            </p:blipFill>
            <p:spPr>
              <a:xfrm>
                <a:off x="713160" y="278352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9" name="Text Box 18"/>
              <p:cNvSpPr/>
              <p:nvPr/>
            </p:nvSpPr>
            <p:spPr>
              <a:xfrm>
                <a:off x="642960" y="278352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Ⅱ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20" name="Group 14"/>
            <p:cNvGrpSpPr/>
            <p:nvPr/>
          </p:nvGrpSpPr>
          <p:grpSpPr>
            <a:xfrm>
              <a:off x="642960" y="3715200"/>
              <a:ext cx="856800" cy="714600"/>
              <a:chOff x="642960" y="3715200"/>
              <a:chExt cx="856800" cy="714600"/>
            </a:xfrm>
          </p:grpSpPr>
          <p:sp>
            <p:nvSpPr>
              <p:cNvPr id="421" name="Oval 15"/>
              <p:cNvSpPr/>
              <p:nvPr/>
            </p:nvSpPr>
            <p:spPr>
              <a:xfrm>
                <a:off x="664200" y="371520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22" name="Oval 16"/>
              <p:cNvSpPr/>
              <p:nvPr/>
            </p:nvSpPr>
            <p:spPr>
              <a:xfrm>
                <a:off x="664200" y="3717360"/>
                <a:ext cx="777600" cy="71244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423" name="Picture 17" descr="알"/>
              <p:cNvPicPr/>
              <p:nvPr/>
            </p:nvPicPr>
            <p:blipFill>
              <a:blip r:embed="rId4"/>
              <a:stretch/>
            </p:blipFill>
            <p:spPr>
              <a:xfrm>
                <a:off x="713160" y="372168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4" name="Text Box 18"/>
              <p:cNvSpPr/>
              <p:nvPr/>
            </p:nvSpPr>
            <p:spPr>
              <a:xfrm>
                <a:off x="642960" y="371916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Ⅲ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25" name="Group 14"/>
            <p:cNvGrpSpPr/>
            <p:nvPr/>
          </p:nvGrpSpPr>
          <p:grpSpPr>
            <a:xfrm>
              <a:off x="642960" y="4651920"/>
              <a:ext cx="856800" cy="714960"/>
              <a:chOff x="642960" y="4651920"/>
              <a:chExt cx="856800" cy="714960"/>
            </a:xfrm>
          </p:grpSpPr>
          <p:sp>
            <p:nvSpPr>
              <p:cNvPr id="426" name="Oval 15"/>
              <p:cNvSpPr/>
              <p:nvPr/>
            </p:nvSpPr>
            <p:spPr>
              <a:xfrm>
                <a:off x="664200" y="4651920"/>
                <a:ext cx="777600" cy="71496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27" name="Oval 16"/>
              <p:cNvSpPr/>
              <p:nvPr/>
            </p:nvSpPr>
            <p:spPr>
              <a:xfrm>
                <a:off x="664200" y="465408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428" name="Picture 17" descr="알"/>
              <p:cNvPicPr/>
              <p:nvPr/>
            </p:nvPicPr>
            <p:blipFill>
              <a:blip r:embed="rId5"/>
              <a:stretch/>
            </p:blipFill>
            <p:spPr>
              <a:xfrm>
                <a:off x="713160" y="4658400"/>
                <a:ext cx="694440" cy="66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9" name="Text Box 18"/>
              <p:cNvSpPr/>
              <p:nvPr/>
            </p:nvSpPr>
            <p:spPr>
              <a:xfrm>
                <a:off x="642960" y="465588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Ⅳ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30" name="Group 14"/>
            <p:cNvGrpSpPr/>
            <p:nvPr/>
          </p:nvGrpSpPr>
          <p:grpSpPr>
            <a:xfrm>
              <a:off x="642960" y="5568120"/>
              <a:ext cx="856800" cy="714600"/>
              <a:chOff x="642960" y="5568120"/>
              <a:chExt cx="856800" cy="714600"/>
            </a:xfrm>
          </p:grpSpPr>
          <p:sp>
            <p:nvSpPr>
              <p:cNvPr id="431" name="Oval 15"/>
              <p:cNvSpPr/>
              <p:nvPr/>
            </p:nvSpPr>
            <p:spPr>
              <a:xfrm>
                <a:off x="664200" y="556812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32" name="Oval 16"/>
              <p:cNvSpPr/>
              <p:nvPr/>
            </p:nvSpPr>
            <p:spPr>
              <a:xfrm>
                <a:off x="664200" y="5570280"/>
                <a:ext cx="777600" cy="71244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433" name="Picture 17" descr="알"/>
              <p:cNvPicPr/>
              <p:nvPr/>
            </p:nvPicPr>
            <p:blipFill>
              <a:blip r:embed="rId6"/>
              <a:stretch/>
            </p:blipFill>
            <p:spPr>
              <a:xfrm>
                <a:off x="713160" y="557460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34" name="Text Box 18"/>
              <p:cNvSpPr/>
              <p:nvPr/>
            </p:nvSpPr>
            <p:spPr>
              <a:xfrm>
                <a:off x="642960" y="557208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Ⅴ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435" name="AutoShape 4"/>
            <p:cNvSpPr/>
            <p:nvPr/>
          </p:nvSpPr>
          <p:spPr>
            <a:xfrm>
              <a:off x="1643040" y="2760480"/>
              <a:ext cx="7199280" cy="67212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a07400"/>
                </a:gs>
                <a:gs pos="100000">
                  <a:srgbClr val="ffca00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고용보장제도의 개념</a:t>
              </a: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현황</a:t>
              </a: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문제점과 과제 이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6" name="AutoShape 4"/>
            <p:cNvSpPr/>
            <p:nvPr/>
          </p:nvSpPr>
          <p:spPr>
            <a:xfrm>
              <a:off x="1622520" y="3697200"/>
              <a:ext cx="7199280" cy="67500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537e25"/>
                </a:gs>
                <a:gs pos="100000">
                  <a:srgbClr val="92da46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주거보장제도의 개념</a:t>
              </a: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현황</a:t>
              </a: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문제점과 과제 이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7" name="AutoShape 4"/>
            <p:cNvSpPr/>
            <p:nvPr/>
          </p:nvSpPr>
          <p:spPr>
            <a:xfrm>
              <a:off x="1643040" y="4634280"/>
              <a:ext cx="7199280" cy="67500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46678b"/>
                </a:gs>
                <a:gs pos="100000">
                  <a:srgbClr val="7cb3ef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건강보장제도의 개념</a:t>
              </a: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현황</a:t>
              </a: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문제점과 과제 이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8" name="AutoShape 4"/>
            <p:cNvSpPr/>
            <p:nvPr/>
          </p:nvSpPr>
          <p:spPr>
            <a:xfrm>
              <a:off x="1643040" y="5571000"/>
              <a:ext cx="7199280" cy="67788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5b007f"/>
                </a:gs>
                <a:gs pos="100000">
                  <a:srgbClr val="a100db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사회서비스의 개념</a:t>
              </a: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현황</a:t>
              </a: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문제점과 과제 이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39" name="AutoShape 7"/>
          <p:cNvSpPr/>
          <p:nvPr/>
        </p:nvSpPr>
        <p:spPr>
          <a:xfrm>
            <a:off x="250920" y="1211400"/>
            <a:ext cx="1606320" cy="431640"/>
          </a:xfrm>
          <a:prstGeom prst="roundRect">
            <a:avLst>
              <a:gd name="adj" fmla="val 49106"/>
            </a:avLst>
          </a:prstGeom>
          <a:gradFill rotWithShape="0">
            <a:gsLst>
              <a:gs pos="0">
                <a:srgbClr val="9e3483"/>
              </a:gs>
              <a:gs pos="50000">
                <a:srgbClr val="ef4fc5"/>
              </a:gs>
              <a:gs pos="100000">
                <a:srgbClr val="9e3483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cacac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ffff"/>
                </a:solidFill>
                <a:latin typeface="HY강B"/>
              </a:rPr>
              <a:t>학습목표</a:t>
            </a:r>
            <a:endParaRPr b="0" lang="en-US" sz="2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357200" y="274680"/>
            <a:ext cx="785808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ffffff"/>
                </a:solidFill>
                <a:latin typeface="HY강B"/>
                <a:ea typeface="HY강B"/>
              </a:rPr>
              <a:t>제</a:t>
            </a:r>
            <a:r>
              <a:rPr b="1" lang="en-US" sz="3800" spc="-1" strike="noStrike">
                <a:solidFill>
                  <a:srgbClr val="ffffff"/>
                </a:solidFill>
                <a:latin typeface="HY강B"/>
                <a:ea typeface="HY강B"/>
              </a:rPr>
              <a:t>11 </a:t>
            </a:r>
            <a:r>
              <a:rPr b="1" lang="ko-KR" sz="3800" spc="-1" strike="noStrike">
                <a:solidFill>
                  <a:srgbClr val="ffffff"/>
                </a:solidFill>
                <a:latin typeface="HY강B"/>
                <a:ea typeface="HY강B"/>
              </a:rPr>
              <a:t>장 현행 노인복지정책과 서비스</a:t>
            </a:r>
            <a:endParaRPr b="0" lang="en-US" sz="3800" spc="-1" strike="noStrike">
              <a:solidFill>
                <a:srgbClr val="ffffff"/>
              </a:solidFill>
              <a:latin typeface="HY견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3" name="그룹 6"/>
          <p:cNvGrpSpPr/>
          <p:nvPr/>
        </p:nvGrpSpPr>
        <p:grpSpPr>
          <a:xfrm>
            <a:off x="0" y="0"/>
            <a:ext cx="9358200" cy="6286680"/>
            <a:chOff x="0" y="0"/>
            <a:chExt cx="9358200" cy="6286680"/>
          </a:xfrm>
        </p:grpSpPr>
        <p:sp>
          <p:nvSpPr>
            <p:cNvPr id="564" name="AutoShape 2"/>
            <p:cNvSpPr/>
            <p:nvPr/>
          </p:nvSpPr>
          <p:spPr>
            <a:xfrm>
              <a:off x="285480" y="1571760"/>
              <a:ext cx="8572680" cy="47149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565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Rectangle 2"/>
            <p:cNvSpPr/>
            <p:nvPr/>
          </p:nvSpPr>
          <p:spPr>
            <a:xfrm>
              <a:off x="1571400" y="142560"/>
              <a:ext cx="77868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400" spc="-1" strike="noStrike">
                  <a:solidFill>
                    <a:srgbClr val="ffffff"/>
                  </a:solidFill>
                  <a:latin typeface="HY강B"/>
                </a:rPr>
                <a:t>5.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사회서비스</a:t>
              </a:r>
              <a:endParaRPr b="0" lang="en-US" sz="3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67" name="AutoShape 4"/>
            <p:cNvSpPr/>
            <p:nvPr/>
          </p:nvSpPr>
          <p:spPr>
            <a:xfrm>
              <a:off x="428400" y="928440"/>
              <a:ext cx="3643200" cy="503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HY강B"/>
                </a:rPr>
                <a:t>1)</a:t>
              </a:r>
              <a:r>
                <a:rPr b="0" lang="ko-KR" sz="2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0" lang="ko-KR" sz="2200" spc="-1" strike="noStrike">
                  <a:solidFill>
                    <a:srgbClr val="ffffff"/>
                  </a:solidFill>
                  <a:latin typeface="HY강B"/>
                </a:rPr>
                <a:t>사회서비스의 이해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68" name="Text Box 6"/>
            <p:cNvSpPr/>
            <p:nvPr/>
          </p:nvSpPr>
          <p:spPr>
            <a:xfrm>
              <a:off x="428400" y="1643040"/>
              <a:ext cx="8358120" cy="456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개념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의 심리사회적 적응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자아발달 욕구충족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일상생활 문제해결을 위한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비화폐적 서비스로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복지서비스로도 불림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특성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개별성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예방성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접근성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다양성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프로그램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상담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정보제공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주간보호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가정방문서비스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건강보호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회적 지지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서비스 등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서비스 제공장소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가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지역사회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시설보호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기능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의 욕구충족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문제해결 원조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서비스 접근도 제고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의 사회적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지위 유지를 위한 지원 기능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사회적 서비스의 장애요인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client 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요인</a:t>
              </a: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서비스를 수치로 생각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독립생활 침해 우려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서비스 제공자의 노인 이해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부족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서비스 제공자 요인</a:t>
              </a: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인에 대한 차별적 시각과 부정적 감정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전달체계 요인</a:t>
              </a: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정보부재로 인한 전달체계와의 단절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낮은 접근도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비용부담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9" name="그룹 8"/>
          <p:cNvGrpSpPr/>
          <p:nvPr/>
        </p:nvGrpSpPr>
        <p:grpSpPr>
          <a:xfrm>
            <a:off x="142920" y="139680"/>
            <a:ext cx="9001080" cy="6147000"/>
            <a:chOff x="142920" y="139680"/>
            <a:chExt cx="9001080" cy="6147000"/>
          </a:xfrm>
        </p:grpSpPr>
        <p:sp>
          <p:nvSpPr>
            <p:cNvPr id="570" name="AutoShape 4"/>
            <p:cNvSpPr/>
            <p:nvPr/>
          </p:nvSpPr>
          <p:spPr>
            <a:xfrm>
              <a:off x="214200" y="139680"/>
              <a:ext cx="4286160" cy="503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 </a:t>
              </a: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2)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현행 사회서비스 체계 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71" name="AutoShape 2"/>
            <p:cNvSpPr/>
            <p:nvPr/>
          </p:nvSpPr>
          <p:spPr>
            <a:xfrm>
              <a:off x="142920" y="1214280"/>
              <a:ext cx="8858520" cy="28148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72" name="Text Box 6"/>
            <p:cNvSpPr/>
            <p:nvPr/>
          </p:nvSpPr>
          <p:spPr>
            <a:xfrm>
              <a:off x="214200" y="1214280"/>
              <a:ext cx="8786880" cy="28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복지서비스는 서비스의 가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지역사회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시설에서 제공하는 모든 비화폐적 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서비스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서비스 내용으로는 상담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여가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교육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봉사 등의 여가와 사회참여 지원 서비스 포괄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장기요양보험 시행과 함께 재가노인복지서비스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방문요양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주야간보호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단기보호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방문목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방문간호 등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는 건강보장 급여로 분류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따라서 노인복지서비스는 노인돌봄서비스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여가지원서비스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평생교육서비스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회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참여지원서비스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권익보호서비스로 한정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73" name="직사각형 16"/>
            <p:cNvSpPr/>
            <p:nvPr/>
          </p:nvSpPr>
          <p:spPr>
            <a:xfrm>
              <a:off x="214200" y="785520"/>
              <a:ext cx="6215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노인복지서비스의 범위</a:t>
              </a:r>
              <a:r>
                <a:rPr b="0" lang="en-US" sz="2200" spc="-1" strike="noStrike">
                  <a:solidFill>
                    <a:srgbClr val="c00000"/>
                  </a:solidFill>
                  <a:latin typeface="Arial"/>
                </a:rPr>
                <a:t> 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74" name="AutoShape 2"/>
            <p:cNvSpPr/>
            <p:nvPr/>
          </p:nvSpPr>
          <p:spPr>
            <a:xfrm>
              <a:off x="142920" y="4681800"/>
              <a:ext cx="8858520" cy="16048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75" name="Text Box 6"/>
            <p:cNvSpPr/>
            <p:nvPr/>
          </p:nvSpPr>
          <p:spPr>
            <a:xfrm>
              <a:off x="357120" y="4822920"/>
              <a:ext cx="8786880" cy="142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30000"/>
                </a:lnSpc>
                <a:spcBef>
                  <a:spcPts val="601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개념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자립생활 영위가 어려운 노인과 독거노인에게 욕구에 따라 안전확인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생활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3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3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교육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서비스 연계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가사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/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활동 지원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주간보호서비스 등의 맞춤서비스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30000"/>
                </a:lnSpc>
                <a:spcBef>
                  <a:spcPts val="1800"/>
                </a:spcBef>
                <a:buSzPct val="10281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구성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돌봄기본서비스 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+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독거노인응급안전알림서비스 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+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독가노인사랑잇기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+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3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무연고 독거노인 장례지원서비스 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+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독거노인공동생활 홈서비스 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+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독거노인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3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회관계 활성화사업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+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돌봄종합서비스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76" name="직사각형 19"/>
            <p:cNvSpPr/>
            <p:nvPr/>
          </p:nvSpPr>
          <p:spPr>
            <a:xfrm>
              <a:off x="214200" y="4246560"/>
              <a:ext cx="6215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노인돌봄서비스</a:t>
              </a:r>
              <a:r>
                <a:rPr b="0" lang="en-US" sz="2200" spc="-1" strike="noStrike">
                  <a:solidFill>
                    <a:srgbClr val="c00000"/>
                  </a:solidFill>
                  <a:latin typeface="Arial"/>
                </a:rPr>
                <a:t> 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7" name="그룹 1"/>
          <p:cNvGrpSpPr/>
          <p:nvPr/>
        </p:nvGrpSpPr>
        <p:grpSpPr>
          <a:xfrm>
            <a:off x="106200" y="-19080"/>
            <a:ext cx="8930160" cy="6612120"/>
            <a:chOff x="106200" y="-19080"/>
            <a:chExt cx="8930160" cy="6612120"/>
          </a:xfrm>
        </p:grpSpPr>
        <p:sp>
          <p:nvSpPr>
            <p:cNvPr id="578" name="AutoShape 2"/>
            <p:cNvSpPr/>
            <p:nvPr/>
          </p:nvSpPr>
          <p:spPr>
            <a:xfrm>
              <a:off x="356040" y="3071880"/>
              <a:ext cx="8643960" cy="9846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79" name="AutoShape 2"/>
            <p:cNvSpPr/>
            <p:nvPr/>
          </p:nvSpPr>
          <p:spPr>
            <a:xfrm>
              <a:off x="356040" y="428400"/>
              <a:ext cx="8643960" cy="21193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0" name="Text Box 6"/>
            <p:cNvSpPr/>
            <p:nvPr/>
          </p:nvSpPr>
          <p:spPr>
            <a:xfrm>
              <a:off x="356040" y="-19080"/>
              <a:ext cx="8572680" cy="263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노인돌봄기본서비스</a:t>
              </a:r>
              <a:r>
                <a:rPr b="0" lang="en-US" sz="20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800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목적</a:t>
              </a: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독거노인의 안전확인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서비스 연계 및 조정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생활교육을 제공해 사회안전망 구축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 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서비스 대상</a:t>
              </a: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소득수준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부양의무자 유무 등에 관계없이 홀로 사는 노인으로서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소득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건강상태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주거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사회적 접촉 등의 수준을 평가하여 서비스 욕구가 높은 노인 선정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 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서비스 방법</a:t>
              </a: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사례관리 방법 활용한 서비스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.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현황조사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-&gt;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욕구사정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-&gt;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개인별 서비스 계획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수립 → 맞춤형 서비스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(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안전확인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생활교육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서비스 연계 및 조정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)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제공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서비스 인력</a:t>
              </a: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인돌봄서비스 관리자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(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사회복지사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)+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생활관리사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서비스 비용</a:t>
              </a: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무료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(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공급자 지원방식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)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1" name="AutoShape 2"/>
            <p:cNvSpPr/>
            <p:nvPr/>
          </p:nvSpPr>
          <p:spPr>
            <a:xfrm>
              <a:off x="213120" y="4462200"/>
              <a:ext cx="8786880" cy="21308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2" name="Text Box 6"/>
            <p:cNvSpPr/>
            <p:nvPr/>
          </p:nvSpPr>
          <p:spPr>
            <a:xfrm>
              <a:off x="284760" y="4005000"/>
              <a:ext cx="8644320" cy="256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 </a:t>
              </a:r>
              <a:r>
                <a:rPr b="0" lang="ko-KR" sz="20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독거노인공동생활 홈서비스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 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농촌지역 독거노인을 위해 마을회관</a:t>
              </a: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경로당 등을 개보수 신축하여 독거노인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공동생활을 지원함으로써</a:t>
              </a: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고독사 예방 및 취약한 주거화경 등의 문제 해소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도시지역 독거노인을 위해 주거지없거나 주거가 열악한 저소득 노인이 다가구 주택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등에서 공동생활할 수 있도록 임대료 지원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유형에 따라 안부확인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복지서비스 연계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밑반찬 배달 등 서비스 제공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자자체의 자체 운영 또는 조례 제정으로 실시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3" name="직사각형 7"/>
            <p:cNvSpPr/>
            <p:nvPr/>
          </p:nvSpPr>
          <p:spPr>
            <a:xfrm>
              <a:off x="1792080" y="2700000"/>
              <a:ext cx="576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독거노인 응급안전알림서비스</a:t>
              </a:r>
              <a:r>
                <a:rPr b="0" lang="en-US" sz="18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,</a:t>
              </a:r>
              <a:r>
                <a:rPr b="0" lang="ko-KR" sz="18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사랑잇기서비스</a:t>
              </a:r>
              <a:r>
                <a:rPr b="0" lang="en-US" sz="18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무연고 독거노인 장례지원서비스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4" name="Text Box 6"/>
            <p:cNvSpPr/>
            <p:nvPr/>
          </p:nvSpPr>
          <p:spPr>
            <a:xfrm>
              <a:off x="106200" y="3020040"/>
              <a:ext cx="8930160" cy="97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50920">
                <a:lnSpc>
                  <a:spcPct val="100000"/>
                </a:lnSpc>
                <a:spcBef>
                  <a:spcPts val="6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 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독거노인응급안전알림서비스</a:t>
              </a: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화재</a:t>
              </a: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가스</a:t>
              </a: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활동감지센서 이용 응급구조 정보시스템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 marL="250920">
                <a:lnSpc>
                  <a:spcPct val="100000"/>
                </a:lnSpc>
                <a:spcBef>
                  <a:spcPts val="6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독거노인사랑잇기서비스</a:t>
              </a: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; 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공공 및 민간콜센터 자원봉사자가 주 </a:t>
              </a: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2-3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회 안부확인</a:t>
              </a: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말벗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 marL="250920">
                <a:lnSpc>
                  <a:spcPct val="100000"/>
                </a:lnSpc>
                <a:spcBef>
                  <a:spcPts val="6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무연고 독거노인 장례지원서비스</a:t>
              </a: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생활관리사가 상주로서 최소한의 장례서비스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5" name="그룹 10"/>
          <p:cNvGrpSpPr/>
          <p:nvPr/>
        </p:nvGrpSpPr>
        <p:grpSpPr>
          <a:xfrm>
            <a:off x="214200" y="284040"/>
            <a:ext cx="8786880" cy="5742360"/>
            <a:chOff x="214200" y="284040"/>
            <a:chExt cx="8786880" cy="5742360"/>
          </a:xfrm>
        </p:grpSpPr>
        <p:sp>
          <p:nvSpPr>
            <p:cNvPr id="586" name="AutoShape 2"/>
            <p:cNvSpPr/>
            <p:nvPr/>
          </p:nvSpPr>
          <p:spPr>
            <a:xfrm>
              <a:off x="357120" y="731520"/>
              <a:ext cx="8643960" cy="16963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7" name="Text Box 6"/>
            <p:cNvSpPr/>
            <p:nvPr/>
          </p:nvSpPr>
          <p:spPr>
            <a:xfrm>
              <a:off x="356760" y="284040"/>
              <a:ext cx="8572680" cy="199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독거노인 사회관계 활성화 사업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800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목적</a:t>
              </a: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독거노인의 절친한 친구관계 형성</a:t>
              </a: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우울증 경감과 자살예방을 위한 상호돌봄체계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구축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800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집단유형</a:t>
              </a: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은둔형 고독사위험군</a:t>
              </a: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활동제한형 자살위험군</a:t>
              </a: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우울형 자살위험군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800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사업내용</a:t>
              </a: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사례괸리</a:t>
              </a: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우울증 진단과 투약</a:t>
              </a: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집단정신치료</a:t>
              </a: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집단활동 프로그램</a:t>
              </a: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자조모임</a:t>
              </a: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88" name="그룹 8"/>
            <p:cNvGrpSpPr/>
            <p:nvPr/>
          </p:nvGrpSpPr>
          <p:grpSpPr>
            <a:xfrm>
              <a:off x="214200" y="2796120"/>
              <a:ext cx="8786880" cy="3230280"/>
              <a:chOff x="214200" y="2796120"/>
              <a:chExt cx="8786880" cy="3230280"/>
            </a:xfrm>
          </p:grpSpPr>
          <p:sp>
            <p:nvSpPr>
              <p:cNvPr id="589" name="AutoShape 2"/>
              <p:cNvSpPr/>
              <p:nvPr/>
            </p:nvSpPr>
            <p:spPr>
              <a:xfrm>
                <a:off x="214200" y="3300120"/>
                <a:ext cx="8786880" cy="272124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90" name="Text Box 6"/>
              <p:cNvSpPr/>
              <p:nvPr/>
            </p:nvSpPr>
            <p:spPr>
              <a:xfrm>
                <a:off x="285480" y="2796120"/>
                <a:ext cx="8644320" cy="323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 </a:t>
                </a:r>
                <a:r>
                  <a:rPr b="0" lang="ko-KR" sz="20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노인돌봄종합서비스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 algn="just">
                  <a:lnSpc>
                    <a:spcPct val="120000"/>
                  </a:lnSpc>
                  <a:spcBef>
                    <a:spcPts val="1500"/>
                  </a:spcBef>
                  <a:buClr>
                    <a:srgbClr val="111f65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  </a:t>
                </a:r>
                <a:r>
                  <a:rPr b="0" lang="ko-KR" sz="16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목적</a:t>
                </a:r>
                <a:r>
                  <a:rPr b="0" lang="en-US" sz="16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일상생활을 영위하기 어려운 노인에게 가사지원 및 활동지원서비스를 제공하여 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 algn="just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  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안정된 노후생활 보장과 가족의 사회경제적 활동기반 조성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601"/>
                  </a:spcBef>
                  <a:buClr>
                    <a:srgbClr val="111f65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 </a:t>
                </a:r>
                <a:r>
                  <a:rPr b="0" lang="ko-KR" sz="16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서비스 대상</a:t>
                </a:r>
                <a:r>
                  <a:rPr b="0" lang="en-US" sz="16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소득기준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가구 중위소득 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160%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이하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과 건강상태 기준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장기요양 등급외 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A, B)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601"/>
                  </a:spcBef>
                  <a:buClr>
                    <a:srgbClr val="111f65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서비스 이용절차</a:t>
                </a:r>
                <a:r>
                  <a:rPr b="0" lang="en-US" sz="16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신청 → 방문조사 → 서비스 대상 확정 → 개인별 서비스 계획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수립 → 이용 계약 체결 → 맞춤 방문서비스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주야간보호서비스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단기가사서비스 등 이용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601"/>
                  </a:spcBef>
                  <a:buClr>
                    <a:srgbClr val="111f65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 </a:t>
                </a:r>
                <a:r>
                  <a:rPr b="0" lang="ko-KR" sz="16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서비스 인력</a:t>
                </a:r>
                <a:r>
                  <a:rPr b="0" lang="en-US" sz="16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인돌보미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요양보호사 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2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급 이상 자격 소지자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)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601"/>
                  </a:spcBef>
                  <a:buClr>
                    <a:srgbClr val="111f65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 </a:t>
                </a:r>
                <a:r>
                  <a:rPr b="0" lang="ko-KR" sz="16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서비스 비용</a:t>
                </a:r>
                <a:r>
                  <a:rPr b="0" lang="en-US" sz="16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소득수준</a:t>
                </a:r>
                <a:r>
                  <a:rPr b="0" lang="en-US" sz="16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서비스 종류</a:t>
                </a:r>
                <a:r>
                  <a:rPr b="0" lang="en-US" sz="16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이용일수와 시간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소득에 따라 무료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-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일정 금액의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본인부담금 선납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.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지원금액은 전자식 바우처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(85%)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지급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1" name="그룹 10"/>
          <p:cNvGrpSpPr/>
          <p:nvPr/>
        </p:nvGrpSpPr>
        <p:grpSpPr>
          <a:xfrm>
            <a:off x="142920" y="146160"/>
            <a:ext cx="8858160" cy="6171120"/>
            <a:chOff x="142920" y="146160"/>
            <a:chExt cx="8858160" cy="6171120"/>
          </a:xfrm>
        </p:grpSpPr>
        <p:grpSp>
          <p:nvGrpSpPr>
            <p:cNvPr id="592" name="그룹 12"/>
            <p:cNvGrpSpPr/>
            <p:nvPr/>
          </p:nvGrpSpPr>
          <p:grpSpPr>
            <a:xfrm>
              <a:off x="142920" y="642960"/>
              <a:ext cx="8858160" cy="500040"/>
              <a:chOff x="142920" y="642960"/>
              <a:chExt cx="8858160" cy="500040"/>
            </a:xfrm>
          </p:grpSpPr>
          <p:sp>
            <p:nvSpPr>
              <p:cNvPr id="593" name="AutoShape 2"/>
              <p:cNvSpPr/>
              <p:nvPr/>
            </p:nvSpPr>
            <p:spPr>
              <a:xfrm>
                <a:off x="142920" y="642960"/>
                <a:ext cx="8858160" cy="50004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94" name="Text Box 6"/>
              <p:cNvSpPr/>
              <p:nvPr/>
            </p:nvSpPr>
            <p:spPr>
              <a:xfrm>
                <a:off x="214200" y="714240"/>
                <a:ext cx="8786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노인여가복지시설</a:t>
                </a:r>
                <a:r>
                  <a:rPr b="1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1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경로당</a:t>
                </a:r>
                <a:r>
                  <a:rPr b="1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, </a:t>
                </a:r>
                <a:r>
                  <a:rPr b="1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노인복지관</a:t>
                </a:r>
                <a:r>
                  <a:rPr b="1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, </a:t>
                </a:r>
                <a:r>
                  <a:rPr b="1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노인교실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595" name="직사각형 3"/>
            <p:cNvSpPr/>
            <p:nvPr/>
          </p:nvSpPr>
          <p:spPr>
            <a:xfrm>
              <a:off x="142920" y="146160"/>
              <a:ext cx="621504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805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8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800" spc="-1" strike="noStrike">
                  <a:solidFill>
                    <a:srgbClr val="c00000"/>
                  </a:solidFill>
                  <a:latin typeface="Arial"/>
                </a:rPr>
                <a:t>여가 지원서비스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96" name="AutoShape 2"/>
            <p:cNvSpPr/>
            <p:nvPr/>
          </p:nvSpPr>
          <p:spPr>
            <a:xfrm>
              <a:off x="142920" y="1388880"/>
              <a:ext cx="8858160" cy="27478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97" name="Text Box 6"/>
            <p:cNvSpPr/>
            <p:nvPr/>
          </p:nvSpPr>
          <p:spPr>
            <a:xfrm>
              <a:off x="214200" y="1388880"/>
              <a:ext cx="8786880" cy="276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1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경로당 활성화 사업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6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경로당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지역노인 친목도모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취미활동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공동작업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정보교환 장소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6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현황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6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만 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5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천여 개소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소규모시설과 재정열악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지역편차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단순소일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6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운영지원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난방연료비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월 운영비 지원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.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모범경로당 지원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6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경로당 활성화사업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노인복지관과 연계하여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사회참여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건강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교육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/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문화정보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상담 및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욕구평가 사업을실시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인복지정보센터와 학대노인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지킴이센터로서의 기능 수행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인공동작업장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인공동생활홈서비스 등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601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경로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당순회프로그램지도자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시군구 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1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인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프로그램 지도 및 연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6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경로당 광역지원센터 운영 및 모범경로당 선정 지원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98" name="AutoShape 2"/>
            <p:cNvSpPr/>
            <p:nvPr/>
          </p:nvSpPr>
          <p:spPr>
            <a:xfrm>
              <a:off x="142920" y="4291200"/>
              <a:ext cx="8858160" cy="19954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99" name="Text Box 6"/>
            <p:cNvSpPr/>
            <p:nvPr/>
          </p:nvSpPr>
          <p:spPr>
            <a:xfrm>
              <a:off x="214200" y="4318200"/>
              <a:ext cx="8786880" cy="19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1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인복지관</a:t>
              </a:r>
              <a:r>
                <a:rPr b="1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개념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인의 교양ㆍ취미생활 및 사회참여활동 등에 대한 각종 정보와 서비스를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제공하고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건강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증진 및 질병예방과 소득보장ㆍ재가복지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그 밖에 노인의 복지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증진에 필요한 서비스를 제공함을 목적으로 하는 노인여가복지시설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시설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연면적 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500m2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이상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사무실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식당 및 조리실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상담실 또는 강당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프로그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실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화장실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물리치료실 또는 건강증진실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비상재해대비시설 각 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1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실 이상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0" name="그룹 10"/>
          <p:cNvGrpSpPr/>
          <p:nvPr/>
        </p:nvGrpSpPr>
        <p:grpSpPr>
          <a:xfrm>
            <a:off x="142920" y="214200"/>
            <a:ext cx="8858160" cy="6069240"/>
            <a:chOff x="142920" y="214200"/>
            <a:chExt cx="8858160" cy="6069240"/>
          </a:xfrm>
        </p:grpSpPr>
        <p:sp>
          <p:nvSpPr>
            <p:cNvPr id="601" name="AutoShape 2"/>
            <p:cNvSpPr/>
            <p:nvPr/>
          </p:nvSpPr>
          <p:spPr>
            <a:xfrm>
              <a:off x="142920" y="214200"/>
              <a:ext cx="8858160" cy="38577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02" name="Text Box 6"/>
            <p:cNvSpPr/>
            <p:nvPr/>
          </p:nvSpPr>
          <p:spPr>
            <a:xfrm>
              <a:off x="214200" y="257040"/>
              <a:ext cx="8748720" cy="373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84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1" lang="ko-KR" sz="24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인복지관</a:t>
              </a:r>
              <a:r>
                <a:rPr b="1" lang="en-US" sz="24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사명과 비전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6b0d8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사명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(mission):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성공적 노후생활 지원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6b0d8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 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비전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(vision):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건강한 노후를 위한 예방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케어 기반구축 및 확충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활동적인 노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를 위한 사회참여 여건조성 및 활성화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안정적 노후를 위한 소득보장의 다양화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와 내실화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서비스 원칙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전문성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지역성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중립성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책임성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서비스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기본사업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평생교육사업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취미여가사업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건강지원사업 등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)+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선택사업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고용 및 소득지원사업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지역복지연계사업 등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)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서비스 대상과 기능별 주요 사업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표 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11-14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참조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재정 및 인력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기초자치단체 규모 등에 따라 차등지원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별도 인력배치 기준 없음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603" name="그룹 5"/>
            <p:cNvGrpSpPr/>
            <p:nvPr/>
          </p:nvGrpSpPr>
          <p:grpSpPr>
            <a:xfrm>
              <a:off x="142920" y="4071960"/>
              <a:ext cx="8858160" cy="2211480"/>
              <a:chOff x="142920" y="4071960"/>
              <a:chExt cx="8858160" cy="2211480"/>
            </a:xfrm>
          </p:grpSpPr>
          <p:sp>
            <p:nvSpPr>
              <p:cNvPr id="604" name="직사각형 6"/>
              <p:cNvSpPr/>
              <p:nvPr/>
            </p:nvSpPr>
            <p:spPr>
              <a:xfrm>
                <a:off x="142920" y="4071960"/>
                <a:ext cx="621504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884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평생교육서비스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05" name="AutoShape 2"/>
              <p:cNvSpPr/>
              <p:nvPr/>
            </p:nvSpPr>
            <p:spPr>
              <a:xfrm>
                <a:off x="142920" y="4497480"/>
                <a:ext cx="8858160" cy="17859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06" name="Text Box 6"/>
              <p:cNvSpPr/>
              <p:nvPr/>
            </p:nvSpPr>
            <p:spPr>
              <a:xfrm>
                <a:off x="214200" y="4497480"/>
                <a:ext cx="8786880" cy="177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교실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학교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대학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경로대학 등으로 불림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현황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복지부 등록 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1,356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개소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.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미등록 운영하는 곳 많아 정확한 실태 파악 어려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운영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운영주체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도농간 편차 매우 크고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취미 오락 위주 프로그램에 치중시설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.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단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복지관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사회복지관은 우수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문제점과 개선방안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제 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6 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장 참조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7" name="그룹 21"/>
          <p:cNvGrpSpPr/>
          <p:nvPr/>
        </p:nvGrpSpPr>
        <p:grpSpPr>
          <a:xfrm>
            <a:off x="142920" y="142920"/>
            <a:ext cx="8858160" cy="6215040"/>
            <a:chOff x="142920" y="142920"/>
            <a:chExt cx="8858160" cy="6215040"/>
          </a:xfrm>
        </p:grpSpPr>
        <p:grpSp>
          <p:nvGrpSpPr>
            <p:cNvPr id="608" name="그룹 8"/>
            <p:cNvGrpSpPr/>
            <p:nvPr/>
          </p:nvGrpSpPr>
          <p:grpSpPr>
            <a:xfrm>
              <a:off x="142920" y="142920"/>
              <a:ext cx="8858160" cy="3571920"/>
              <a:chOff x="142920" y="142920"/>
              <a:chExt cx="8858160" cy="3571920"/>
            </a:xfrm>
          </p:grpSpPr>
          <p:sp>
            <p:nvSpPr>
              <p:cNvPr id="609" name="직사각형 4"/>
              <p:cNvSpPr/>
              <p:nvPr/>
            </p:nvSpPr>
            <p:spPr>
              <a:xfrm>
                <a:off x="142920" y="142920"/>
                <a:ext cx="621504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884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사회참여지원서비스</a:t>
                </a:r>
                <a:r>
                  <a:rPr b="0" lang="en-US" sz="2400" spc="-1" strike="noStrike">
                    <a:solidFill>
                      <a:srgbClr val="c00000"/>
                    </a:solidFill>
                    <a:latin typeface="Arial"/>
                  </a:rPr>
                  <a:t> 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10" name="AutoShape 2"/>
              <p:cNvSpPr/>
              <p:nvPr/>
            </p:nvSpPr>
            <p:spPr>
              <a:xfrm>
                <a:off x="142920" y="525240"/>
                <a:ext cx="8858160" cy="31896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11" name="Text Box 6"/>
              <p:cNvSpPr/>
              <p:nvPr/>
            </p:nvSpPr>
            <p:spPr>
              <a:xfrm>
                <a:off x="214200" y="525240"/>
                <a:ext cx="8786880" cy="3173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의 사회단체 참여율은 낮은 편으로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6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장에서 이미 논의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자원봉사활동지원은 노인 일거리 마련사업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(2001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년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으로 시작하여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2005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년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일자리사업으로 편입되었으나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2007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년 노인자원봉사사업으로 재추진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 자원봉사활동 지원 주요사업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 자원봉사 클럽 지원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 자원봉사단 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운영 매뉴얼 개선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자원봉사 대축제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자원봉사단체간 협의회 운영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자원봉사 클럽은 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20-30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명 내외 구성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월 운영비 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20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만원 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7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개월 이내 지원 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이외에 노인 교통자원봉사단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퇴직노인 봉사단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복지기관의 자발적 노인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자원봉사단이 조직되어 활동 중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 자원봉사활동 촉진 및 관리 방안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: 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6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장 참조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612" name="그룹 17"/>
            <p:cNvGrpSpPr/>
            <p:nvPr/>
          </p:nvGrpSpPr>
          <p:grpSpPr>
            <a:xfrm>
              <a:off x="142920" y="3786120"/>
              <a:ext cx="8858160" cy="2571840"/>
              <a:chOff x="142920" y="3786120"/>
              <a:chExt cx="8858160" cy="2571840"/>
            </a:xfrm>
          </p:grpSpPr>
          <p:sp>
            <p:nvSpPr>
              <p:cNvPr id="613" name="직사각형 18"/>
              <p:cNvSpPr/>
              <p:nvPr/>
            </p:nvSpPr>
            <p:spPr>
              <a:xfrm>
                <a:off x="142920" y="3786120"/>
                <a:ext cx="621504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884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재가노인지원서비스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14" name="AutoShape 2"/>
              <p:cNvSpPr/>
              <p:nvPr/>
            </p:nvSpPr>
            <p:spPr>
              <a:xfrm>
                <a:off x="142920" y="4211640"/>
                <a:ext cx="8858160" cy="21463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15" name="Text Box 6"/>
              <p:cNvSpPr/>
              <p:nvPr/>
            </p:nvSpPr>
            <p:spPr>
              <a:xfrm>
                <a:off x="214200" y="4211640"/>
                <a:ext cx="8786880" cy="2121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장기요양보험으로 중등도 이하 질병 앓는 노인을 위한 사회서비스 오히려 축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대상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장기요양급여 수급자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장기요양등급외자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기초수급자와 의존적 재가노인 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서비스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:  </a:t>
                </a:r>
                <a:r>
                  <a:rPr b="0" lang="en-US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ADL</a:t>
                </a:r>
                <a:r>
                  <a:rPr b="0" lang="ko-KR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서비스</a:t>
                </a:r>
                <a:r>
                  <a:rPr b="0" lang="en-US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정서지원</a:t>
                </a:r>
                <a:r>
                  <a:rPr b="0" lang="en-US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주거개선</a:t>
                </a:r>
                <a:r>
                  <a:rPr b="0" lang="en-US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여가지원</a:t>
                </a:r>
                <a:r>
                  <a:rPr b="0" lang="en-US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상담</a:t>
                </a:r>
                <a:r>
                  <a:rPr b="0" lang="en-US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지역자원개발</a:t>
                </a:r>
                <a:r>
                  <a:rPr b="0" lang="en-US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자원연계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지원</a:t>
                </a:r>
                <a:r>
                  <a:rPr b="0" lang="en-US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긴급지원서비스 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1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인력과 재정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사회복지사 등 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3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인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지자체 기준 의거 재정지원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1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농어촌 재가노인복지시설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(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방문요양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+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주간보호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+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단기보호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)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운영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6" name="그룹 5"/>
          <p:cNvGrpSpPr/>
          <p:nvPr/>
        </p:nvGrpSpPr>
        <p:grpSpPr>
          <a:xfrm>
            <a:off x="142920" y="214200"/>
            <a:ext cx="8858160" cy="6023160"/>
            <a:chOff x="142920" y="214200"/>
            <a:chExt cx="8858160" cy="6023160"/>
          </a:xfrm>
        </p:grpSpPr>
        <p:sp>
          <p:nvSpPr>
            <p:cNvPr id="617" name="직사각형 1"/>
            <p:cNvSpPr/>
            <p:nvPr/>
          </p:nvSpPr>
          <p:spPr>
            <a:xfrm>
              <a:off x="142920" y="214200"/>
              <a:ext cx="6215040" cy="45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820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6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600" spc="-1" strike="noStrike">
                  <a:solidFill>
                    <a:srgbClr val="c00000"/>
                  </a:solidFill>
                  <a:latin typeface="Arial"/>
                </a:rPr>
                <a:t>노인권익보호서비스</a:t>
              </a:r>
              <a:r>
                <a:rPr b="0" lang="en-US" sz="2600" spc="-1" strike="noStrike">
                  <a:solidFill>
                    <a:srgbClr val="c00000"/>
                  </a:solidFill>
                  <a:latin typeface="Arial"/>
                </a:rPr>
                <a:t> </a:t>
              </a:r>
              <a:endParaRPr b="0" lang="en-US" sz="2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18" name="AutoShape 2"/>
            <p:cNvSpPr/>
            <p:nvPr/>
          </p:nvSpPr>
          <p:spPr>
            <a:xfrm>
              <a:off x="142920" y="836640"/>
              <a:ext cx="8858160" cy="54007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19" name="Text Box 6"/>
            <p:cNvSpPr/>
            <p:nvPr/>
          </p:nvSpPr>
          <p:spPr>
            <a:xfrm>
              <a:off x="214200" y="979200"/>
              <a:ext cx="8786880" cy="513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2004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년 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1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월 노인복지법 개정으로 긴급전화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☏1577-1389)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보호전문기관 설치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601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중앙노인보호전문기관</a:t>
              </a:r>
              <a:r>
                <a:rPr b="0" lang="en-US" sz="18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: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 인권정책 제안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인권 연구와 프로그램 개발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지역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보호전문기관 업무지원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상담원 교육 및 대외협력사업 등 추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601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지역노인보호전문기관</a:t>
              </a:r>
              <a:r>
                <a:rPr b="0" lang="en-US" sz="18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학대신고전화 운영 및 사례접수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현장조사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피해노인 및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학대행위자 상담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학대사례관리서비스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학대예방교육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효행교육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학대노인 쉼터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자살예방사업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학대 지킴이단 운영 등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1199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보호전문기관의 사례관리서비스 절차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그림 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11-4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참조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1199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학대피해노인 전용쉼터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학대피해노인의 숙식제공 등 쉼터생활 지원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전문심리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상담 등의 치유프로그램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의료비 지원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학대행위자 상당 등 제공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정원 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5-9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인 이하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소장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-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사회복지사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정신보건전문요원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) 2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인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-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요양보호사 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3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인 배치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1199"/>
                </a:spcBef>
                <a:buSzPct val="10281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노인인권보호사업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복지시설 인권보호 및 안전관리지침 시행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복지부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2006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년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복지시설 운영자 및 종사자 인권교육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2018)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국가인권위원회의 노인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인권교육교재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2008)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및 노인 인권 길라잡이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2014)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발간과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인권지킴이단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한국노인복지중앙회 인권매뉴얼 발간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2009)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한국노인종합복지관협회의 노인 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ombudsman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시범사업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성년후견제도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2013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년 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7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월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0" name="그룹 6"/>
          <p:cNvGrpSpPr/>
          <p:nvPr/>
        </p:nvGrpSpPr>
        <p:grpSpPr>
          <a:xfrm>
            <a:off x="285840" y="71280"/>
            <a:ext cx="8643960" cy="6074280"/>
            <a:chOff x="285840" y="71280"/>
            <a:chExt cx="8643960" cy="6074280"/>
          </a:xfrm>
        </p:grpSpPr>
        <p:grpSp>
          <p:nvGrpSpPr>
            <p:cNvPr id="621" name="그룹 22"/>
            <p:cNvGrpSpPr/>
            <p:nvPr/>
          </p:nvGrpSpPr>
          <p:grpSpPr>
            <a:xfrm>
              <a:off x="285840" y="821160"/>
              <a:ext cx="8643960" cy="5324400"/>
              <a:chOff x="285840" y="821160"/>
              <a:chExt cx="8643960" cy="5324400"/>
            </a:xfrm>
          </p:grpSpPr>
          <p:sp>
            <p:nvSpPr>
              <p:cNvPr id="622" name="AutoShape 2"/>
              <p:cNvSpPr/>
              <p:nvPr/>
            </p:nvSpPr>
            <p:spPr>
              <a:xfrm>
                <a:off x="285840" y="821160"/>
                <a:ext cx="8643960" cy="53244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23" name="Text Box 6"/>
              <p:cNvSpPr/>
              <p:nvPr/>
            </p:nvSpPr>
            <p:spPr>
              <a:xfrm>
                <a:off x="500040" y="950040"/>
                <a:ext cx="8358480" cy="2685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돌봄서비스 문제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사업대상이 저소득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중증질환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독거노인에 국한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가족부담 경감서비스 미흡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유사서비스와의 연계성 부족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인력의 전문성과 업무부담 문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대안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가족돌봄기능 지원 강화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돌봄서비스간 연계와 통합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인력 전문성제고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여가활동 지원사업 전반의 문제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시설부족과 낮은 접근도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전문인력 및 프로그램의 한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대안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인여가 인식증진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전문인력 양성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프로그램 다양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624" name="AutoShape 4"/>
            <p:cNvSpPr/>
            <p:nvPr/>
          </p:nvSpPr>
          <p:spPr>
            <a:xfrm>
              <a:off x="357120" y="71280"/>
              <a:ext cx="5214960" cy="599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HY강B"/>
                </a:rPr>
                <a:t>3) </a:t>
              </a:r>
              <a:r>
                <a:rPr b="1" lang="ko-KR" sz="2400" spc="-1" strike="noStrike">
                  <a:solidFill>
                    <a:srgbClr val="ffffff"/>
                  </a:solidFill>
                  <a:latin typeface="HY강B"/>
                </a:rPr>
                <a:t>사회서비스의 문제점과 과제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25" name="Text Box 6"/>
            <p:cNvSpPr/>
            <p:nvPr/>
          </p:nvSpPr>
          <p:spPr>
            <a:xfrm>
              <a:off x="500040" y="3694320"/>
              <a:ext cx="8358480" cy="23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경로당의 문제점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시설기준과 운영지원 기준 낮아 동네 사랑방 역할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대안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경로당활성화사업 확대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지도자 리더십개발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지역자원연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800"/>
                </a:spcBef>
                <a:buSzPct val="10279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인복지관 운영 문제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기관간 편차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사업의 편중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대안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복지관 및 분관 확대설치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사업특성화 및 사회참여지원 사업 강화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6" name="그룹 8"/>
          <p:cNvGrpSpPr/>
          <p:nvPr/>
        </p:nvGrpSpPr>
        <p:grpSpPr>
          <a:xfrm>
            <a:off x="71280" y="142920"/>
            <a:ext cx="8963280" cy="6666840"/>
            <a:chOff x="71280" y="142920"/>
            <a:chExt cx="8963280" cy="6666840"/>
          </a:xfrm>
        </p:grpSpPr>
        <p:grpSp>
          <p:nvGrpSpPr>
            <p:cNvPr id="627" name="그룹 12"/>
            <p:cNvGrpSpPr/>
            <p:nvPr/>
          </p:nvGrpSpPr>
          <p:grpSpPr>
            <a:xfrm>
              <a:off x="71280" y="5643720"/>
              <a:ext cx="7572600" cy="1166040"/>
              <a:chOff x="71280" y="5643720"/>
              <a:chExt cx="7572600" cy="1166040"/>
            </a:xfrm>
          </p:grpSpPr>
          <p:pic>
            <p:nvPicPr>
              <p:cNvPr id="628" name="Picture 4" descr="C:\DOCUME~1\USER\LOCALS~1\Temp\UNI000006c8818c.gif"/>
              <p:cNvPicPr/>
              <p:nvPr/>
            </p:nvPicPr>
            <p:blipFill>
              <a:blip r:embed="rId1"/>
              <a:stretch/>
            </p:blipFill>
            <p:spPr>
              <a:xfrm>
                <a:off x="71280" y="5643720"/>
                <a:ext cx="1000080" cy="899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29" name="Rectangle 4"/>
              <p:cNvSpPr/>
              <p:nvPr/>
            </p:nvSpPr>
            <p:spPr>
              <a:xfrm>
                <a:off x="856800" y="5786280"/>
                <a:ext cx="6787080" cy="102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4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 </a:t>
                </a:r>
                <a:r>
                  <a:rPr b="1" lang="ko-KR" sz="24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다음 주 강의주제</a:t>
                </a:r>
                <a:r>
                  <a:rPr b="1" lang="en-US" sz="24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: </a:t>
                </a:r>
                <a:r>
                  <a:rPr b="1" lang="ko-KR" sz="28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노인복지 프로그램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630" name="그룹 22"/>
            <p:cNvGrpSpPr/>
            <p:nvPr/>
          </p:nvGrpSpPr>
          <p:grpSpPr>
            <a:xfrm>
              <a:off x="213840" y="142920"/>
              <a:ext cx="8820720" cy="5529960"/>
              <a:chOff x="213840" y="142920"/>
              <a:chExt cx="8820720" cy="5529960"/>
            </a:xfrm>
          </p:grpSpPr>
          <p:sp>
            <p:nvSpPr>
              <p:cNvPr id="631" name="AutoShape 2"/>
              <p:cNvSpPr/>
              <p:nvPr/>
            </p:nvSpPr>
            <p:spPr>
              <a:xfrm>
                <a:off x="213840" y="142920"/>
                <a:ext cx="8820720" cy="55299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32" name="Text Box 6"/>
              <p:cNvSpPr/>
              <p:nvPr/>
            </p:nvSpPr>
            <p:spPr>
              <a:xfrm>
                <a:off x="285120" y="357120"/>
                <a:ext cx="8748000" cy="358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평생교육의 문제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도시편중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강사부족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재원부족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교육환경 미흡 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대안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법개정 통해 노인교실을 평생교육기관으로 재규정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체계적 교육과정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/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프로그램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/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교재개발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인전문인력 양성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인교육기관간 유기적 협력 체계 구축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참여 지원서비스 문제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봉사인식부족 및 참여저조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프로그램 및 지원체계 미비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사회적 보상체계의 미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성숙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대안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봉사의식 제고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전문 프로그램 개발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인봉사 지도자 양성 및 봉사조직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확대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독자적 관리체계 구축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기관의 체계적 노인봉사자 관리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자생적 봉사클럽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확대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일자리사업과의 차별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633" name="Text Box 6"/>
            <p:cNvSpPr/>
            <p:nvPr/>
          </p:nvSpPr>
          <p:spPr>
            <a:xfrm>
              <a:off x="285480" y="4000680"/>
              <a:ext cx="8749080" cy="158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인권익보호서비스 문제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601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학대문제에 치중한 소극적 인권보호서비스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601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대안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법률 제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·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개정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학술연구 및 프로그램 개발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인보호 전문기관의 기능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확대 강화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인권보호서비스 강화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성년후견제도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인복지 옴부즈맨 프로그램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도입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1" name="그룹 10"/>
          <p:cNvGrpSpPr/>
          <p:nvPr/>
        </p:nvGrpSpPr>
        <p:grpSpPr>
          <a:xfrm>
            <a:off x="0" y="0"/>
            <a:ext cx="9144000" cy="6215040"/>
            <a:chOff x="0" y="0"/>
            <a:chExt cx="9144000" cy="6215040"/>
          </a:xfrm>
        </p:grpSpPr>
        <p:sp>
          <p:nvSpPr>
            <p:cNvPr id="442" name="AutoShape 2"/>
            <p:cNvSpPr/>
            <p:nvPr/>
          </p:nvSpPr>
          <p:spPr>
            <a:xfrm>
              <a:off x="142560" y="1285920"/>
              <a:ext cx="8858520" cy="24289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443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4" name="Rectangle 2"/>
            <p:cNvSpPr/>
            <p:nvPr/>
          </p:nvSpPr>
          <p:spPr>
            <a:xfrm>
              <a:off x="1643040" y="142560"/>
              <a:ext cx="68580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6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600" spc="-1" strike="noStrike">
                  <a:solidFill>
                    <a:srgbClr val="ffffff"/>
                  </a:solidFill>
                  <a:latin typeface="HY강B"/>
                </a:rPr>
                <a:t>1. </a:t>
              </a:r>
              <a:r>
                <a:rPr b="1" lang="ko-KR" sz="36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600" spc="-1" strike="noStrike">
                  <a:solidFill>
                    <a:srgbClr val="ffffff"/>
                  </a:solidFill>
                  <a:latin typeface="HY강B"/>
                </a:rPr>
                <a:t>소득보장</a:t>
              </a:r>
              <a:endParaRPr b="0" lang="en-US" sz="3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5" name="Text Box 25"/>
            <p:cNvSpPr/>
            <p:nvPr/>
          </p:nvSpPr>
          <p:spPr>
            <a:xfrm>
              <a:off x="142560" y="1369800"/>
              <a:ext cx="8929800" cy="224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개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빈곤문제의 예방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해결을 위한 사회보장제도의 일부로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회보험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공적부조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회수당 등과 같은 국가의 직접적 소득이전 프로그램을 통하여 최저 한도 이상의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소득을 보장해주려는 사회적 노력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소득보장체계의 구조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공적부조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공적연금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개인연금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-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저축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-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퇴직연금의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3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층구조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소득보장 방법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직접적 소득보장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회보험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공적부조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적보장체계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 +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간접적 소득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보장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비용할인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취업증진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세금감면혜택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회보험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공적부조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회수당의 특성 비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표 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11-1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참조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6" name="AutoShape 4"/>
            <p:cNvSpPr/>
            <p:nvPr/>
          </p:nvSpPr>
          <p:spPr>
            <a:xfrm>
              <a:off x="214200" y="857160"/>
              <a:ext cx="3429000" cy="428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HY강B"/>
                </a:rPr>
                <a:t>1) </a:t>
              </a:r>
              <a:r>
                <a:rPr b="0" lang="ko-KR" sz="2200" spc="-1" strike="noStrike">
                  <a:solidFill>
                    <a:srgbClr val="ffffff"/>
                  </a:solidFill>
                  <a:latin typeface="HY강B"/>
                </a:rPr>
                <a:t>소득보장의 이해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7" name="AutoShape 2"/>
            <p:cNvSpPr/>
            <p:nvPr/>
          </p:nvSpPr>
          <p:spPr>
            <a:xfrm>
              <a:off x="142560" y="4857840"/>
              <a:ext cx="8858520" cy="13572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8" name="Text Box 25"/>
            <p:cNvSpPr/>
            <p:nvPr/>
          </p:nvSpPr>
          <p:spPr>
            <a:xfrm>
              <a:off x="142560" y="4857840"/>
              <a:ext cx="8929800" cy="13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개념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소득감소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상실을 초래하는 사회적 위험들 중 노령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장애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망으로 발생하는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경제적 어려움에 대응하기 위한 사회대책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현행제도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국민연금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+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특수직역연금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공무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군인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립학교교직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+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공적부조식 공적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연금제도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기초연금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9" name="AutoShape 4"/>
            <p:cNvSpPr/>
            <p:nvPr/>
          </p:nvSpPr>
          <p:spPr>
            <a:xfrm>
              <a:off x="214200" y="3929040"/>
              <a:ext cx="3429000" cy="428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HY강B"/>
                </a:rPr>
                <a:t>2) </a:t>
              </a:r>
              <a:r>
                <a:rPr b="0" lang="ko-KR" sz="2200" spc="-1" strike="noStrike">
                  <a:solidFill>
                    <a:srgbClr val="ffffff"/>
                  </a:solidFill>
                  <a:latin typeface="HY강B"/>
                </a:rPr>
                <a:t>현행 소득보장체계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0" name="직사각형 16"/>
            <p:cNvSpPr/>
            <p:nvPr/>
          </p:nvSpPr>
          <p:spPr>
            <a:xfrm>
              <a:off x="285480" y="4500720"/>
              <a:ext cx="621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9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연금제도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1" name="그룹 10"/>
          <p:cNvGrpSpPr/>
          <p:nvPr/>
        </p:nvGrpSpPr>
        <p:grpSpPr>
          <a:xfrm>
            <a:off x="142920" y="214200"/>
            <a:ext cx="8929800" cy="6168600"/>
            <a:chOff x="142920" y="214200"/>
            <a:chExt cx="8929800" cy="6168600"/>
          </a:xfrm>
        </p:grpSpPr>
        <p:sp>
          <p:nvSpPr>
            <p:cNvPr id="452" name="AutoShape 2"/>
            <p:cNvSpPr/>
            <p:nvPr/>
          </p:nvSpPr>
          <p:spPr>
            <a:xfrm>
              <a:off x="142920" y="214200"/>
              <a:ext cx="8858520" cy="22143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3" name="Text Box 25"/>
            <p:cNvSpPr/>
            <p:nvPr/>
          </p:nvSpPr>
          <p:spPr>
            <a:xfrm>
              <a:off x="142920" y="250560"/>
              <a:ext cx="8715600" cy="21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국민연금제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보험료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월소득의 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9%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로 통일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급여종류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령연금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장애연금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유족연금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반환일시금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(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표 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11-2 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참조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)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급여 현황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: 2017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년 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337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만 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6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천여명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(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국민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+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특수직역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), 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령연금 급여액 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(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표 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11-3 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참조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)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00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기초연금제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수급자격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소득 하위 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70%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이하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단독가구 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137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만 이하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부부가구 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219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만 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2000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원 이하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급여액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소득인정액과 가구형태에 따라 차등 지급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2018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년 노인의 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67.1%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연금 수급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4" name="AutoShape 2"/>
            <p:cNvSpPr/>
            <p:nvPr/>
          </p:nvSpPr>
          <p:spPr>
            <a:xfrm>
              <a:off x="142920" y="2928600"/>
              <a:ext cx="8858520" cy="13572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5" name="Text Box 25"/>
            <p:cNvSpPr/>
            <p:nvPr/>
          </p:nvSpPr>
          <p:spPr>
            <a:xfrm>
              <a:off x="142920" y="2928960"/>
              <a:ext cx="8929800" cy="135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개념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생활능력을 상실한 자와 일정 생활수준에 미달한 자에 대하여 국가가 최저생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활보장과 자립촉진을 목적으로 한 경제적 보호제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국민기초생활보장제도의 내용 및 급여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중위소득 기준의 맞춤형 급여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(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표 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11-4 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참조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)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37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2017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년 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65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세 이상 노인 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43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만 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5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백여명 수급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노인인구의 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5.9%,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전체 수급권자의 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28.9%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6" name="직사각형 6"/>
            <p:cNvSpPr/>
            <p:nvPr/>
          </p:nvSpPr>
          <p:spPr>
            <a:xfrm>
              <a:off x="285480" y="2571480"/>
              <a:ext cx="6215040" cy="38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57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1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100" spc="-1" strike="noStrike">
                  <a:solidFill>
                    <a:srgbClr val="c00000"/>
                  </a:solidFill>
                  <a:latin typeface="Arial"/>
                </a:rPr>
                <a:t>공적 부조제도</a:t>
              </a:r>
              <a:endParaRPr b="0" lang="en-US" sz="21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7" name="AutoShape 2"/>
            <p:cNvSpPr/>
            <p:nvPr/>
          </p:nvSpPr>
          <p:spPr>
            <a:xfrm>
              <a:off x="142920" y="5000400"/>
              <a:ext cx="8858520" cy="13572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8" name="Text Box 25"/>
            <p:cNvSpPr/>
            <p:nvPr/>
          </p:nvSpPr>
          <p:spPr>
            <a:xfrm>
              <a:off x="142920" y="5000760"/>
              <a:ext cx="8929800" cy="138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개념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조세에 의해 특정 인구집단을 대상으로 보편주의원칙에 의거하여 연금 또는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서비스를 제공하는 제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발달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경로우대제 등이 시행되었으나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회수당으로는 노인교통수당만 존재했음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2008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년 기초연금제도에 통합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현재 일부 지자체 장수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효도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경로 수당 지급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9" name="직사각형 9"/>
            <p:cNvSpPr/>
            <p:nvPr/>
          </p:nvSpPr>
          <p:spPr>
            <a:xfrm>
              <a:off x="285480" y="4630680"/>
              <a:ext cx="6215040" cy="38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57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1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100" spc="-1" strike="noStrike">
                  <a:solidFill>
                    <a:srgbClr val="c00000"/>
                  </a:solidFill>
                  <a:latin typeface="Arial"/>
                </a:rPr>
                <a:t>사회수당</a:t>
              </a:r>
              <a:endParaRPr b="0" lang="en-US" sz="21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0" name="그룹 7"/>
          <p:cNvGrpSpPr/>
          <p:nvPr/>
        </p:nvGrpSpPr>
        <p:grpSpPr>
          <a:xfrm>
            <a:off x="142920" y="142920"/>
            <a:ext cx="8858160" cy="6072120"/>
            <a:chOff x="142920" y="142920"/>
            <a:chExt cx="8858160" cy="6072120"/>
          </a:xfrm>
        </p:grpSpPr>
        <p:sp>
          <p:nvSpPr>
            <p:cNvPr id="461" name="AutoShape 2"/>
            <p:cNvSpPr/>
            <p:nvPr/>
          </p:nvSpPr>
          <p:spPr>
            <a:xfrm>
              <a:off x="142920" y="583920"/>
              <a:ext cx="8858160" cy="19875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2" name="Text Box 25"/>
            <p:cNvSpPr/>
            <p:nvPr/>
          </p:nvSpPr>
          <p:spPr>
            <a:xfrm>
              <a:off x="214200" y="642960"/>
              <a:ext cx="8786880" cy="196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개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개인연금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퇴직연금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개인저축 등 개인 스스로 노후소득 준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개인연금과 저축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금융권에서 노후생활자금 목적으로 판매되므로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정확한 현황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파악 안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퇴직연금제도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확정급여형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확정기여형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기업퇴직계좌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개인퇴직계좌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.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가입기업이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27.2%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가입근로자는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50.2%.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총적립액은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167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조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500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억원이나 지속 증가추이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.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3" name="직사각형 3"/>
            <p:cNvSpPr/>
            <p:nvPr/>
          </p:nvSpPr>
          <p:spPr>
            <a:xfrm>
              <a:off x="214200" y="142920"/>
              <a:ext cx="621504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884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400" spc="-1" strike="noStrike">
                  <a:solidFill>
                    <a:srgbClr val="c00000"/>
                  </a:solidFill>
                  <a:latin typeface="Arial"/>
                </a:rPr>
                <a:t>사적 소득보장체계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4" name="AutoShape 2"/>
            <p:cNvSpPr/>
            <p:nvPr/>
          </p:nvSpPr>
          <p:spPr>
            <a:xfrm>
              <a:off x="142920" y="3370320"/>
              <a:ext cx="8858160" cy="28447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5" name="Text Box 25"/>
            <p:cNvSpPr/>
            <p:nvPr/>
          </p:nvSpPr>
          <p:spPr>
            <a:xfrm>
              <a:off x="214200" y="3517920"/>
              <a:ext cx="8786880" cy="24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경로우대제도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노인의 지출 경감을 통한 노후 소득보전방식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80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년 도입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민간부문 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89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년 폐지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공공부문 시행 중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공공부문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: KTX 30%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전철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고궁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박물관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공원 입장료 무료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항공기 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10%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여객선 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20%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할인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세금감면제도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상속세 및 증여세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5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천만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소득세 공제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부양가족공제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경로우대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공제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양도소득세 감면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별거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-&gt;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동거 전환시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이자소득 및 배당소득 비과세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노인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1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인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2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천만원 이하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노인결연사업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한국노인복지중앙회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1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계좌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1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만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결연노인에게 후원금 전액 지급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6" name="직사각형 6"/>
            <p:cNvSpPr/>
            <p:nvPr/>
          </p:nvSpPr>
          <p:spPr>
            <a:xfrm>
              <a:off x="214200" y="2928960"/>
              <a:ext cx="621504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884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400" spc="-1" strike="noStrike">
                  <a:solidFill>
                    <a:srgbClr val="c00000"/>
                  </a:solidFill>
                  <a:latin typeface="Arial"/>
                </a:rPr>
                <a:t>경로우대제도 및 각종 감면혜택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7" name="그룹 5"/>
          <p:cNvGrpSpPr/>
          <p:nvPr/>
        </p:nvGrpSpPr>
        <p:grpSpPr>
          <a:xfrm>
            <a:off x="142920" y="142920"/>
            <a:ext cx="8858160" cy="6215040"/>
            <a:chOff x="142920" y="142920"/>
            <a:chExt cx="8858160" cy="6215040"/>
          </a:xfrm>
        </p:grpSpPr>
        <p:sp>
          <p:nvSpPr>
            <p:cNvPr id="468" name="AutoShape 2"/>
            <p:cNvSpPr/>
            <p:nvPr/>
          </p:nvSpPr>
          <p:spPr>
            <a:xfrm>
              <a:off x="142920" y="571320"/>
              <a:ext cx="8786880" cy="57866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69" name="그룹 10"/>
            <p:cNvGrpSpPr/>
            <p:nvPr/>
          </p:nvGrpSpPr>
          <p:grpSpPr>
            <a:xfrm>
              <a:off x="357120" y="142920"/>
              <a:ext cx="8643960" cy="5952960"/>
              <a:chOff x="357120" y="142920"/>
              <a:chExt cx="8643960" cy="5952960"/>
            </a:xfrm>
          </p:grpSpPr>
          <p:sp>
            <p:nvSpPr>
              <p:cNvPr id="470" name="AutoShape 4"/>
              <p:cNvSpPr/>
              <p:nvPr/>
            </p:nvSpPr>
            <p:spPr>
              <a:xfrm>
                <a:off x="357120" y="142920"/>
                <a:ext cx="5000760" cy="4284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</a:rPr>
                  <a:t>3) 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</a:rPr>
                  <a:t>노후소득보장의 문제와 과제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71" name="Text Box 6"/>
              <p:cNvSpPr/>
              <p:nvPr/>
            </p:nvSpPr>
            <p:spPr>
              <a:xfrm>
                <a:off x="499680" y="642960"/>
                <a:ext cx="8501400" cy="545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공적 노후소득보장의 역할 미흡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기초연금 수급자 제외하면 현재 노인의 절반 이상이 공적 소득보장 급여 못 받음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대안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조세방식 기초연금제 확대하여 다층소득보장체계 구축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공적 부조제도 확충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개인의 자발적 노후소득보장 노력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국민연금제도의 지속가능성과 안정적 노후소득보장 가능성의 문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저부담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-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고급여체계로 인해 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2050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년대 중후반에 연금 기금 적자 및 고갈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령연금 급여액의 노후 생계비 보장의 한계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대안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고부담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-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저급여체계로 전환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기금운용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보험료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-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급여액 쟁점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)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국민기초생활보장제도의 급여 대상과 수준의 제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중위소득에 기준한 맞춤형 급여체계로 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2015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년 전환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생계급여 선정 소득기준이 상대적으로 낮고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주거급여는 실 임대로 반영 못함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대안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합리적 중위소득 기준 마면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빈곤노인 기초생활 및 주거와 의료욕구 반영한 급여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간접적 소득보장제도의 낮은 보조 수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대안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고급문화활동 감면혜택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세제감면 확대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부모 부양수당 대상 확대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인자가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운전 차량에 대한 비용 감면제도 도입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적 노후소득보장 노력 미흡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대안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퇴직연금 제도 확대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개인연금과 저축 활성화 방안 모색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2" name="그룹 16"/>
          <p:cNvGrpSpPr/>
          <p:nvPr/>
        </p:nvGrpSpPr>
        <p:grpSpPr>
          <a:xfrm>
            <a:off x="0" y="0"/>
            <a:ext cx="9144000" cy="6434640"/>
            <a:chOff x="0" y="0"/>
            <a:chExt cx="9144000" cy="6434640"/>
          </a:xfrm>
        </p:grpSpPr>
        <p:pic>
          <p:nvPicPr>
            <p:cNvPr id="473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4" name="Rectangle 2"/>
            <p:cNvSpPr/>
            <p:nvPr/>
          </p:nvSpPr>
          <p:spPr>
            <a:xfrm>
              <a:off x="1428480" y="142560"/>
              <a:ext cx="68580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200" spc="-1" strike="noStrike">
                  <a:solidFill>
                    <a:srgbClr val="ffffff"/>
                  </a:solidFill>
                  <a:latin typeface="HY강B"/>
                </a:rPr>
                <a:t>2.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고용보장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75" name="그룹 17"/>
            <p:cNvGrpSpPr/>
            <p:nvPr/>
          </p:nvGrpSpPr>
          <p:grpSpPr>
            <a:xfrm>
              <a:off x="323640" y="928440"/>
              <a:ext cx="8606160" cy="2357280"/>
              <a:chOff x="323640" y="928440"/>
              <a:chExt cx="8606160" cy="2357280"/>
            </a:xfrm>
          </p:grpSpPr>
          <p:sp>
            <p:nvSpPr>
              <p:cNvPr id="476" name="AutoShape 2"/>
              <p:cNvSpPr/>
              <p:nvPr/>
            </p:nvSpPr>
            <p:spPr>
              <a:xfrm>
                <a:off x="323640" y="1364760"/>
                <a:ext cx="8606160" cy="19209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77" name="Text Box 25"/>
              <p:cNvSpPr/>
              <p:nvPr/>
            </p:nvSpPr>
            <p:spPr>
              <a:xfrm>
                <a:off x="394920" y="1428480"/>
                <a:ext cx="8534880" cy="181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개념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국가가 고용에 관한 정책을 시행하여 국민의 능력을 최대로 개발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발휘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하게하고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동시장 효율성 제고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인력의 수급균형을 도모하여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고용안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근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 지위의 향상을 도모하는 제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고용보장정책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고용정책기본법에 의한 고용보험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산재보험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직업능력개발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사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협력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고용안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임금근로조건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산업안전보건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고용평등 중에서 노인복지분야는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고령자 취업촉진대책이 주류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78" name="AutoShape 4"/>
              <p:cNvSpPr/>
              <p:nvPr/>
            </p:nvSpPr>
            <p:spPr>
              <a:xfrm>
                <a:off x="394920" y="928440"/>
                <a:ext cx="3819600" cy="4363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ffffff"/>
                    </a:solidFill>
                    <a:latin typeface="HY강B"/>
                  </a:rPr>
                  <a:t>1) </a:t>
                </a:r>
                <a:r>
                  <a:rPr b="0" lang="ko-KR" sz="2200" spc="-1" strike="noStrike">
                    <a:solidFill>
                      <a:srgbClr val="ffffff"/>
                    </a:solidFill>
                    <a:latin typeface="HY강B"/>
                  </a:rPr>
                  <a:t>고용보장의 이해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79" name="그룹 17"/>
            <p:cNvGrpSpPr/>
            <p:nvPr/>
          </p:nvGrpSpPr>
          <p:grpSpPr>
            <a:xfrm>
              <a:off x="323640" y="3425760"/>
              <a:ext cx="8606160" cy="1142640"/>
              <a:chOff x="323640" y="3425760"/>
              <a:chExt cx="8606160" cy="1142640"/>
            </a:xfrm>
          </p:grpSpPr>
          <p:sp>
            <p:nvSpPr>
              <p:cNvPr id="480" name="AutoShape 2"/>
              <p:cNvSpPr/>
              <p:nvPr/>
            </p:nvSpPr>
            <p:spPr>
              <a:xfrm>
                <a:off x="323640" y="3861720"/>
                <a:ext cx="8606160" cy="7063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1" name="Text Box 25"/>
              <p:cNvSpPr/>
              <p:nvPr/>
            </p:nvSpPr>
            <p:spPr>
              <a:xfrm>
                <a:off x="394920" y="3925800"/>
                <a:ext cx="85348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현행 고용보장제도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고령자고용촉진법에 의한 고용촉진대책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+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복지법에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의한 노인취업 지원사업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2" name="AutoShape 4"/>
              <p:cNvSpPr/>
              <p:nvPr/>
            </p:nvSpPr>
            <p:spPr>
              <a:xfrm>
                <a:off x="394920" y="3425760"/>
                <a:ext cx="3819600" cy="4363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ffffff"/>
                    </a:solidFill>
                    <a:latin typeface="HY강B"/>
                  </a:rPr>
                  <a:t>2) </a:t>
                </a:r>
                <a:r>
                  <a:rPr b="0" lang="ko-KR" sz="2200" spc="-1" strike="noStrike">
                    <a:solidFill>
                      <a:srgbClr val="ffffff"/>
                    </a:solidFill>
                    <a:latin typeface="HY강B"/>
                  </a:rPr>
                  <a:t>현행 고용보장체계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83" name="그룹 17"/>
            <p:cNvGrpSpPr/>
            <p:nvPr/>
          </p:nvGrpSpPr>
          <p:grpSpPr>
            <a:xfrm>
              <a:off x="357120" y="5000400"/>
              <a:ext cx="8786880" cy="1434240"/>
              <a:chOff x="357120" y="5000400"/>
              <a:chExt cx="8786880" cy="1434240"/>
            </a:xfrm>
          </p:grpSpPr>
          <p:sp>
            <p:nvSpPr>
              <p:cNvPr id="484" name="AutoShape 2"/>
              <p:cNvSpPr/>
              <p:nvPr/>
            </p:nvSpPr>
            <p:spPr>
              <a:xfrm>
                <a:off x="357120" y="5004360"/>
                <a:ext cx="8606160" cy="14248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5" name="Text Box 25"/>
              <p:cNvSpPr/>
              <p:nvPr/>
            </p:nvSpPr>
            <p:spPr>
              <a:xfrm>
                <a:off x="428400" y="5000400"/>
                <a:ext cx="8715600" cy="143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고령자고용촉진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고령자 등의 고용연장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일자리지원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년과 연령차별금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017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년 제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3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차 고령자 고용촉진 기본계획 수립 추진 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그림 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11-1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비전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일을 통해 활력 있는 장년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목표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평생직업생활 준비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숙련유지 및 향상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일자리 기회확대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고령사회 대비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486" name="직사각형 25"/>
            <p:cNvSpPr/>
            <p:nvPr/>
          </p:nvSpPr>
          <p:spPr>
            <a:xfrm>
              <a:off x="428400" y="4643640"/>
              <a:ext cx="615960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고령자고용촉진법에 의한 장년고용서비스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7" name="그룹 1"/>
          <p:cNvGrpSpPr/>
          <p:nvPr/>
        </p:nvGrpSpPr>
        <p:grpSpPr>
          <a:xfrm>
            <a:off x="324000" y="333360"/>
            <a:ext cx="8715240" cy="5975280"/>
            <a:chOff x="324000" y="333360"/>
            <a:chExt cx="8715240" cy="5975280"/>
          </a:xfrm>
        </p:grpSpPr>
        <p:grpSp>
          <p:nvGrpSpPr>
            <p:cNvPr id="488" name="그룹 17"/>
            <p:cNvGrpSpPr/>
            <p:nvPr/>
          </p:nvGrpSpPr>
          <p:grpSpPr>
            <a:xfrm>
              <a:off x="324000" y="817200"/>
              <a:ext cx="8715240" cy="5491440"/>
              <a:chOff x="324000" y="817200"/>
              <a:chExt cx="8715240" cy="5491440"/>
            </a:xfrm>
          </p:grpSpPr>
          <p:sp>
            <p:nvSpPr>
              <p:cNvPr id="489" name="AutoShape 2"/>
              <p:cNvSpPr/>
              <p:nvPr/>
            </p:nvSpPr>
            <p:spPr>
              <a:xfrm>
                <a:off x="324000" y="817200"/>
                <a:ext cx="8605800" cy="549144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0" name="Text Box 25"/>
              <p:cNvSpPr/>
              <p:nvPr/>
            </p:nvSpPr>
            <p:spPr>
              <a:xfrm>
                <a:off x="504720" y="858240"/>
                <a:ext cx="8534520" cy="537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평생직업생활 준비 지원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생애경력개발서비스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경력진단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진로설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개인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경력관리 계획 수립 등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전직지원서비스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전직스쿨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취창업정보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상담 등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장년친화적 노동시장 조성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 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60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세 정년제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장년근로시간단축제도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고용연장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지원금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일터혁신컨설팅 서비스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세부 내용 교재 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396-297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쪽 참조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취업지원서비스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취업성공패키지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취업단계에 따른 맞춤형 취업지원서비스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)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신중년 적합직무 고용창출 장려금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세부 내용 교재 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397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쪽 참조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숙련유지 및 행상 지원서비스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내일배움카드제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국가기간 전략산업 훈련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폴리텍 대학 베이비부머 양성훈련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세부 내용 교재 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397-398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쪽 참조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새로운 일하기 지원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신중년 사회공헌활동 지원사업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시니어 창업지원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귀농귀촌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종합센터 운영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사회적 기업 설립지원 사업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세부 내용 교재 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398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쪽 참조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장년고용서비스기관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노고용센터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중장년일자리희망센터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여성새로일하기센터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지자제의 장년지원센터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(50+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센터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인생이모작지원센터 등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(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세부 내용 교재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   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399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쪽 참조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491" name="직사각형 4"/>
            <p:cNvSpPr/>
            <p:nvPr/>
          </p:nvSpPr>
          <p:spPr>
            <a:xfrm>
              <a:off x="395280" y="333360"/>
              <a:ext cx="702468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884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c00000"/>
                  </a:solidFill>
                  <a:latin typeface="Arial"/>
                </a:rPr>
                <a:t> </a:t>
              </a:r>
              <a:r>
                <a:rPr b="0" lang="ko-KR" sz="2400" spc="-1" strike="noStrike">
                  <a:solidFill>
                    <a:srgbClr val="c00000"/>
                  </a:solidFill>
                  <a:latin typeface="Arial"/>
                </a:rPr>
                <a:t>고령자고용촉진법에 의한 장년고용서비스 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2" name="그룹 8"/>
          <p:cNvGrpSpPr/>
          <p:nvPr/>
        </p:nvGrpSpPr>
        <p:grpSpPr>
          <a:xfrm>
            <a:off x="214200" y="154080"/>
            <a:ext cx="8715600" cy="6024600"/>
            <a:chOff x="214200" y="154080"/>
            <a:chExt cx="8715600" cy="6024600"/>
          </a:xfrm>
        </p:grpSpPr>
        <p:grpSp>
          <p:nvGrpSpPr>
            <p:cNvPr id="493" name="그룹 17"/>
            <p:cNvGrpSpPr/>
            <p:nvPr/>
          </p:nvGrpSpPr>
          <p:grpSpPr>
            <a:xfrm>
              <a:off x="214200" y="637920"/>
              <a:ext cx="8715600" cy="5540760"/>
              <a:chOff x="214200" y="637920"/>
              <a:chExt cx="8715600" cy="5540760"/>
            </a:xfrm>
          </p:grpSpPr>
          <p:sp>
            <p:nvSpPr>
              <p:cNvPr id="494" name="AutoShape 2"/>
              <p:cNvSpPr/>
              <p:nvPr/>
            </p:nvSpPr>
            <p:spPr>
              <a:xfrm>
                <a:off x="214200" y="637920"/>
                <a:ext cx="8606160" cy="55407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5" name="Text Box 25"/>
              <p:cNvSpPr/>
              <p:nvPr/>
            </p:nvSpPr>
            <p:spPr>
              <a:xfrm>
                <a:off x="394920" y="678960"/>
                <a:ext cx="8534880" cy="5424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300"/>
                  </a:spcBef>
                  <a:buSzPct val="10281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노인취업알선기관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대한노인회 노인취업지원센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취업상담과 알선 등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,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참여 활동 연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경로당 공동작업장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단순 작업과 지역특산물 생산 위주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1199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노인인력개발기관과 노인일자리지원기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인력개발기관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한국노인인력개발원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일자리개발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조사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교육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협력사업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300"/>
                  </a:spcBef>
                  <a:buClr>
                    <a:srgbClr val="111f65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시니어클럽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주로 시장형 일자리 사업 추진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, 2018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년 현재 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148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개소 운영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1199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노인 사회활동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노인일자리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지원 사업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목표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일자리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재능 나눔 등을 통한 적극적 사회참여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소득보전 등을 통한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노인문제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예방과 노인복지 증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300"/>
                  </a:spcBef>
                  <a:buClr>
                    <a:srgbClr val="111f65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대상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: 65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세 이상의 신청자 중에서 연령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건강상태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일자리사업 참여 등을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평가하여 선정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300"/>
                  </a:spcBef>
                  <a:buClr>
                    <a:srgbClr val="111f65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사업유형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노인사회활동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공익활동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재능 나눔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)+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노인일자리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사회서비스형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시장형 사업단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, 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인력파견형 사업단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시니어인턴십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고령자친화기업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기업연계형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 (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11-6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300"/>
                  </a:spcBef>
                  <a:buClr>
                    <a:srgbClr val="111f65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근무조건과 보수지원 수준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11-7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496" name="직사각형 4"/>
            <p:cNvSpPr/>
            <p:nvPr/>
          </p:nvSpPr>
          <p:spPr>
            <a:xfrm>
              <a:off x="285480" y="154080"/>
              <a:ext cx="56437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884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400" spc="-1" strike="noStrike">
                  <a:solidFill>
                    <a:srgbClr val="c00000"/>
                  </a:solidFill>
                  <a:latin typeface="Arial"/>
                </a:rPr>
                <a:t>노인복지법에 의한 고용보장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2T12:34:59Z</dcterms:created>
  <dc:creator>OWNER</dc:creator>
  <dc:description/>
  <dc:language>en-US</dc:language>
  <cp:lastModifiedBy>Windows 사용자</cp:lastModifiedBy>
  <dcterms:modified xsi:type="dcterms:W3CDTF">2019-07-11T19:15:22Z</dcterms:modified>
  <cp:revision>403</cp:revision>
  <dc:subject/>
  <dc:title>Click to add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367961042</vt:lpwstr>
  </property>
</Properties>
</file>